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45.xml.rels" ContentType="application/vnd.openxmlformats-package.relationships+xml"/>
  <Override PartName="/ppt/notesSlides/notesSlide6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7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44.png" ContentType="image/png"/>
  <Override PartName="/ppt/media/image18.wmf" ContentType="image/x-wmf"/>
  <Override PartName="/ppt/media/image5.jpeg" ContentType="image/jpeg"/>
  <Override PartName="/ppt/media/image50.png" ContentType="image/png"/>
  <Override PartName="/ppt/media/image40.png" ContentType="image/png"/>
  <Override PartName="/ppt/media/image11.jpeg" ContentType="image/jpeg"/>
  <Override PartName="/ppt/media/image23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33.jpeg" ContentType="image/jpeg"/>
  <Override PartName="/ppt/media/image27.jpeg" ContentType="image/jpeg"/>
  <Override PartName="/ppt/media/image47.png" ContentType="image/png"/>
  <Override PartName="/ppt/media/image35.jpeg" ContentType="image/jpe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46.png" ContentType="image/png"/>
  <Override PartName="/ppt/media/image37.png" ContentType="image/png"/>
  <Override PartName="/ppt/media/image34.jpeg" ContentType="image/jpeg"/>
  <Override PartName="/ppt/media/image28.png" ContentType="image/png"/>
  <Override PartName="/ppt/media/image7.jpeg" ContentType="image/jpeg"/>
  <Override PartName="/ppt/media/image36.png" ContentType="image/png"/>
  <Override PartName="/ppt/media/image48.png" ContentType="image/png"/>
  <Override PartName="/ppt/media/image51.png" ContentType="image/png"/>
  <Override PartName="/ppt/media/image31.jpeg" ContentType="image/jpeg"/>
  <Override PartName="/ppt/media/image12.png" ContentType="image/png"/>
  <Override PartName="/ppt/media/image49.png" ContentType="image/png"/>
  <Override PartName="/ppt/media/image52.wmf" ContentType="image/x-wmf"/>
  <Override PartName="/ppt/media/image39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907588" cy="6858000"/>
  <p:notesSz cx="6858000" cy="8913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891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0" y="67716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-43200" bIns="-43200" anchor="b">
            <a:noAutofit/>
          </a:bodyPr>
          <a:p>
            <a:pPr algn="r"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233960"/>
            <a:ext cx="5486040" cy="401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014480" y="668160"/>
            <a:ext cx="4829040" cy="33433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Courier New"/>
              </a:rPr>
              <a:t>Estabelecimento e manutenção de Ferramentas – </a:t>
            </a:r>
            <a:r>
              <a:rPr b="0" lang="pt-BR" sz="1200" spc="-1" strike="noStrike">
                <a:solidFill>
                  <a:srgbClr val="ff0000"/>
                </a:solidFill>
                <a:latin typeface="Arial"/>
                <a:ea typeface="Courier New"/>
              </a:rPr>
              <a:t>lembrar que não é ficar responsável pela ferramenta, mas sim trabalhar nas funcionalidades da mesma adequada à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014480" y="668160"/>
            <a:ext cx="4829040" cy="33433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Courier New"/>
              </a:rPr>
              <a:t>Estabelecimento e manutenção de Ferramentas – </a:t>
            </a:r>
            <a:r>
              <a:rPr b="0" lang="pt-BR" sz="1200" spc="-1" strike="noStrike">
                <a:solidFill>
                  <a:srgbClr val="ff0000"/>
                </a:solidFill>
                <a:latin typeface="Arial"/>
                <a:ea typeface="Courier New"/>
              </a:rPr>
              <a:t>lembrar que não é ficar responsável pela ferramenta, mas sim trabalhar nas funcionalidades da mesma adequada à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014480" y="668160"/>
            <a:ext cx="4829040" cy="33433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Courier New"/>
              </a:rPr>
              <a:t>Estabelecimento e manutenção de Ferramentas – </a:t>
            </a:r>
            <a:r>
              <a:rPr b="0" lang="pt-BR" sz="1200" spc="-1" strike="noStrike">
                <a:solidFill>
                  <a:srgbClr val="ff0000"/>
                </a:solidFill>
                <a:latin typeface="Arial"/>
                <a:ea typeface="Courier New"/>
              </a:rPr>
              <a:t>lembrar que não é ficar responsável pela ferramenta, mas sim trabalhar nas funcionalidades da mesma adequada à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014480" y="668160"/>
            <a:ext cx="4829040" cy="33433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Courier New"/>
              </a:rPr>
              <a:t>Estabelecimento e manutenção de Ferramentas – </a:t>
            </a:r>
            <a:r>
              <a:rPr b="0" lang="pt-BR" sz="1200" spc="-1" strike="noStrike">
                <a:solidFill>
                  <a:srgbClr val="ff0000"/>
                </a:solidFill>
                <a:latin typeface="Arial"/>
                <a:ea typeface="Courier New"/>
              </a:rPr>
              <a:t>lembrar que não é ficar responsável pela ferramenta, mas sim trabalhar nas funcionalidades da mesma adequada à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014480" y="668160"/>
            <a:ext cx="4829040" cy="33433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Courier New"/>
              </a:rPr>
              <a:t>Estabelecimento e manutenção de Ferramentas – </a:t>
            </a:r>
            <a:r>
              <a:rPr b="0" lang="pt-BR" sz="1200" spc="-1" strike="noStrike">
                <a:solidFill>
                  <a:srgbClr val="ff0000"/>
                </a:solidFill>
                <a:latin typeface="Arial"/>
                <a:ea typeface="Courier New"/>
              </a:rPr>
              <a:t>lembrar que não é ficar responsável pela ferramenta, mas sim trabalhar nas funcionalidades da mesma adequada à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014480" y="668160"/>
            <a:ext cx="4829040" cy="33433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Courier New"/>
              </a:rPr>
              <a:t>Estabelecimento e manutenção de Ferramentas – </a:t>
            </a:r>
            <a:r>
              <a:rPr b="0" lang="pt-BR" sz="1200" spc="-1" strike="noStrike">
                <a:solidFill>
                  <a:srgbClr val="ff0000"/>
                </a:solidFill>
                <a:latin typeface="Arial"/>
                <a:ea typeface="Courier New"/>
              </a:rPr>
              <a:t>lembrar que não é ficar responsável pela ferramenta, mas sim trabalhar nas funcionalidades da mesma adequada à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014480" y="668160"/>
            <a:ext cx="4829040" cy="334332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Courier New"/>
              </a:rPr>
              <a:t>Estabelecimento e manutenção de Ferramentas – </a:t>
            </a:r>
            <a:r>
              <a:rPr b="0" lang="pt-BR" sz="1200" spc="-1" strike="noStrike">
                <a:solidFill>
                  <a:srgbClr val="ff0000"/>
                </a:solidFill>
                <a:latin typeface="Arial"/>
                <a:ea typeface="Courier New"/>
              </a:rPr>
              <a:t>lembrar que não é ficar responsável pela ferramenta, mas sim trabalhar nas funcionalidades da mesma adequada à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014480" y="668160"/>
            <a:ext cx="4829040" cy="33433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Courier New"/>
              </a:rPr>
              <a:t>Estabelecimento e manutenção de Ferramentas – </a:t>
            </a:r>
            <a:r>
              <a:rPr b="0" lang="pt-BR" sz="1200" spc="-1" strike="noStrike">
                <a:solidFill>
                  <a:srgbClr val="ff0000"/>
                </a:solidFill>
                <a:latin typeface="Arial"/>
                <a:ea typeface="Courier New"/>
              </a:rPr>
              <a:t>lembrar que não é ficar responsável pela ferramenta, mas sim trabalhar nas funcionalidades da mesma adequada à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014480" y="668160"/>
            <a:ext cx="4829040" cy="334332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Courier New"/>
              </a:rPr>
              <a:t>Estabelecimento e manutenção de Ferramentas – </a:t>
            </a:r>
            <a:r>
              <a:rPr b="0" lang="pt-BR" sz="1200" spc="-1" strike="noStrike">
                <a:solidFill>
                  <a:srgbClr val="ff0000"/>
                </a:solidFill>
                <a:latin typeface="Arial"/>
                <a:ea typeface="Courier New"/>
              </a:rPr>
              <a:t>lembrar que não é ficar responsável pela ferramenta, mas sim trabalhar nas funcionalidades da mesma adequada à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014480" y="668160"/>
            <a:ext cx="4829040" cy="334332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Courier New"/>
              </a:rPr>
              <a:t>Estabelecimento e manutenção de Ferramentas – </a:t>
            </a:r>
            <a:r>
              <a:rPr b="0" lang="pt-BR" sz="1200" spc="-1" strike="noStrike">
                <a:solidFill>
                  <a:srgbClr val="ff0000"/>
                </a:solidFill>
                <a:latin typeface="Arial"/>
                <a:ea typeface="Courier New"/>
              </a:rPr>
              <a:t>lembrar que não é ficar responsável pela ferramenta, mas sim trabalhar nas funcionalidades da mesma adequada à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014480" y="668160"/>
            <a:ext cx="4829040" cy="33433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Courier New"/>
              </a:rPr>
              <a:t>Estabelecimento e manutenção de Ferramentas – </a:t>
            </a:r>
            <a:r>
              <a:rPr b="0" lang="pt-BR" sz="1200" spc="-1" strike="noStrike">
                <a:solidFill>
                  <a:srgbClr val="ff0000"/>
                </a:solidFill>
                <a:latin typeface="Arial"/>
                <a:ea typeface="Courier New"/>
              </a:rPr>
              <a:t>lembrar que não é ficar responsável pela ferramenta, mas sim trabalhar nas funcionalidades da mesma adequada à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014480" y="668160"/>
            <a:ext cx="4829040" cy="334332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Courier New"/>
              </a:rPr>
              <a:t>Estabelecimento e manutenção de Ferramentas – </a:t>
            </a:r>
            <a:r>
              <a:rPr b="0" lang="pt-BR" sz="1200" spc="-1" strike="noStrike">
                <a:solidFill>
                  <a:srgbClr val="ff0000"/>
                </a:solidFill>
                <a:latin typeface="Arial"/>
                <a:ea typeface="Courier New"/>
              </a:rPr>
              <a:t>lembrar que não é ficar responsável pela ferramenta, mas sim trabalhar nas funcionalidades da mesma adequada à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014480" y="668160"/>
            <a:ext cx="4829040" cy="334332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Courier New"/>
              </a:rPr>
              <a:t>Estabelecimento e manutenção de Ferramentas – </a:t>
            </a:r>
            <a:r>
              <a:rPr b="0" lang="pt-BR" sz="1200" spc="-1" strike="noStrike">
                <a:solidFill>
                  <a:srgbClr val="ff0000"/>
                </a:solidFill>
                <a:latin typeface="Arial"/>
                <a:ea typeface="Courier New"/>
              </a:rPr>
              <a:t>lembrar que não é ficar responsável pela ferramenta, mas sim trabalhar nas funcionalidades da mesma adequada à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014480" y="668160"/>
            <a:ext cx="4829040" cy="33433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Courier New"/>
              </a:rPr>
              <a:t>Estabelecimento e manutenção de Ferramentas – </a:t>
            </a:r>
            <a:r>
              <a:rPr b="0" lang="pt-BR" sz="1200" spc="-1" strike="noStrike">
                <a:solidFill>
                  <a:srgbClr val="ff0000"/>
                </a:solidFill>
                <a:latin typeface="Arial"/>
                <a:ea typeface="Courier New"/>
              </a:rPr>
              <a:t>lembrar que não é ficar responsável pela ferramenta, mas sim trabalhar nas funcionalidades da mesma adequada à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014480" y="668160"/>
            <a:ext cx="4829040" cy="334332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Courier New"/>
              </a:rPr>
              <a:t>Estabelecimento e manutenção de Ferramentas – </a:t>
            </a:r>
            <a:r>
              <a:rPr b="0" lang="pt-BR" sz="1200" spc="-1" strike="noStrike">
                <a:solidFill>
                  <a:srgbClr val="ff0000"/>
                </a:solidFill>
                <a:latin typeface="Arial"/>
                <a:ea typeface="Courier New"/>
              </a:rPr>
              <a:t>lembrar que não é ficar responsável pela ferramenta, mas sim trabalhar nas funcionalidades da mesma adequada à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014480" y="668160"/>
            <a:ext cx="4829040" cy="334332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Courier New"/>
              </a:rPr>
              <a:t>Estabelecimento e manutenção de Ferramentas – </a:t>
            </a:r>
            <a:r>
              <a:rPr b="0" lang="pt-BR" sz="1200" spc="-1" strike="noStrike">
                <a:solidFill>
                  <a:srgbClr val="ff0000"/>
                </a:solidFill>
                <a:latin typeface="Arial"/>
                <a:ea typeface="Courier New"/>
              </a:rPr>
              <a:t>lembrar que não é ficar responsável pela ferramenta, mas sim trabalhar nas funcionalidades da mesma adequada à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014480" y="668160"/>
            <a:ext cx="4829040" cy="33433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Courier New"/>
              </a:rPr>
              <a:t>Estabelecimento e manutenção de Ferramentas – </a:t>
            </a:r>
            <a:r>
              <a:rPr b="0" lang="pt-BR" sz="1200" spc="-1" strike="noStrike">
                <a:solidFill>
                  <a:srgbClr val="ff0000"/>
                </a:solidFill>
                <a:latin typeface="Arial"/>
                <a:ea typeface="Courier New"/>
              </a:rPr>
              <a:t>lembrar que não é ficar responsável pela ferramenta, mas sim trabalhar nas funcionalidades da mesma adequada à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014480" y="668160"/>
            <a:ext cx="4829040" cy="334332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Courier New"/>
              </a:rPr>
              <a:t>Estabelecimento e manutenção de Ferramentas – </a:t>
            </a:r>
            <a:r>
              <a:rPr b="0" lang="pt-BR" sz="1200" spc="-1" strike="noStrike">
                <a:solidFill>
                  <a:srgbClr val="ff0000"/>
                </a:solidFill>
                <a:latin typeface="Arial"/>
                <a:ea typeface="Courier New"/>
              </a:rPr>
              <a:t>lembrar que não é ficar responsável pela ferramenta, mas sim trabalhar nas funcionalidades da mesma adequada à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014480" y="668160"/>
            <a:ext cx="4829040" cy="334332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Courier New"/>
              </a:rPr>
              <a:t>Estabelecimento e manutenção de Ferramentas – </a:t>
            </a:r>
            <a:r>
              <a:rPr b="0" lang="pt-BR" sz="1200" spc="-1" strike="noStrike">
                <a:solidFill>
                  <a:srgbClr val="ff0000"/>
                </a:solidFill>
                <a:latin typeface="Arial"/>
                <a:ea typeface="Courier New"/>
              </a:rPr>
              <a:t>lembrar que não é ficar responsável pela ferramenta, mas sim trabalhar nas funcionalidades da mesma adequada à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014480" y="668160"/>
            <a:ext cx="4829040" cy="334332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Courier New"/>
              </a:rPr>
              <a:t>Estabelecimento e manutenção de Ferramentas – </a:t>
            </a:r>
            <a:r>
              <a:rPr b="0" lang="pt-BR" sz="1200" spc="-1" strike="noStrike">
                <a:solidFill>
                  <a:srgbClr val="ff0000"/>
                </a:solidFill>
                <a:latin typeface="Arial"/>
                <a:ea typeface="Courier New"/>
              </a:rPr>
              <a:t>lembrar que não é ficar responsável pela ferramenta, mas sim trabalhar nas funcionalidades da mesma adequada à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8640" y="38160"/>
            <a:ext cx="882036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18640" y="38160"/>
            <a:ext cx="882036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18640" y="38160"/>
            <a:ext cx="882036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856-972F-4DB8-B04A-55EFAD0C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18640" y="38160"/>
            <a:ext cx="882036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7861-6CAE-49CF-8F71-F6EA67DE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8640" y="38160"/>
            <a:ext cx="882036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A65-7E3F-47C9-9884-90090F94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8640" y="38160"/>
            <a:ext cx="882036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646-B398-41B1-8708-A748EE2F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18640" y="38160"/>
            <a:ext cx="882036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C4D2-DAD5-437A-8D15-9B2B6E1C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18640" y="38160"/>
            <a:ext cx="8820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0ED-D84E-493D-9B2D-7B08657C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8640" y="38160"/>
            <a:ext cx="882036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4F4C-D7B6-43B6-A207-8CE8F980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18640" y="38160"/>
            <a:ext cx="882036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8640" y="38160"/>
            <a:ext cx="882036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9A0-BE46-4863-85A1-5A2BF42F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18640" y="38160"/>
            <a:ext cx="882036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44EB-14F0-400C-B848-2C796A0B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18640" y="38160"/>
            <a:ext cx="882036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7587-7D0B-427F-942A-2D4F5F0C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18640" y="38160"/>
            <a:ext cx="882036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97FA-DA3C-4427-A861-2E2FBCF3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18640" y="38160"/>
            <a:ext cx="882036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EE0-E68E-4A0D-A8B9-B0ED480D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18640" y="38160"/>
            <a:ext cx="882036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8640" y="38160"/>
            <a:ext cx="882036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18640" y="38160"/>
            <a:ext cx="882036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18640" y="38160"/>
            <a:ext cx="8820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18640" y="38160"/>
            <a:ext cx="882036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18640" y="38160"/>
            <a:ext cx="882036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18640" y="38160"/>
            <a:ext cx="882036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8640" y="38160"/>
            <a:ext cx="882036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178920" y="868320"/>
            <a:ext cx="171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13560"/>
            <a:ext cx="9906120" cy="266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	</a:t>
            </a:r>
            <a:fld id="{9AF6B3B2-E47D-48FC-9770-2AA04CC10E69}" type="slidenum">
              <a:rPr b="0" lang="pt-B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Prof. Marcantonio Fab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613560"/>
            <a:ext cx="9906120" cy="266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PMO</a:t>
            </a: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	</a:t>
            </a:r>
            <a:fld id="{09F4BBDA-517B-4BEB-BCD1-89D2F476A165}" type="slidenum">
              <a:rPr b="0" lang="pt-B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               Marcantonio Fab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80" y="1009800"/>
            <a:ext cx="8940600" cy="69840"/>
          </a:xfrm>
          <a:prstGeom prst="roundRect">
            <a:avLst>
              <a:gd name="adj" fmla="val 49995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62000" y="152280"/>
            <a:ext cx="533160" cy="619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835840" y="839880"/>
            <a:ext cx="1433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fld id="{74A55D06-18DF-4380-9DD7-1006F16EDD58}" type="slidenum">
              <a:rPr b="1" lang="en-US" sz="1600" spc="-1" strike="noStrike">
                <a:solidFill>
                  <a:srgbClr val="caa902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caa902"/>
                </a:solidFill>
                <a:latin typeface="Arial"/>
              </a:rPr>
              <a:t>/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76280" indent="-476280">
              <a:spcBef>
                <a:spcPts val="751"/>
              </a:spcBef>
              <a:buSzPct val="123413"/>
              <a:buBlip>
                <a:blip r:embed="rId3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47600" indent="-38088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28548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023920" indent="-214200">
              <a:spcBef>
                <a:spcPts val="476"/>
              </a:spcBef>
              <a:buClr>
                <a:srgbClr val="c0c0c0"/>
              </a:buClr>
              <a:buFont typeface="Arial"/>
              <a:buChar char="–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428920" indent="-214200">
              <a:spcBef>
                <a:spcPts val="476"/>
              </a:spcBef>
              <a:buClr>
                <a:srgbClr val="c0c0c0"/>
              </a:buClr>
              <a:buFont typeface="Arial"/>
              <a:buChar char="•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428920" indent="-2142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428920" indent="-2142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144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fld id="{B437758A-8E2B-44DB-A659-2BE4209E9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9240" y="152280"/>
            <a:ext cx="45720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6280" y="3181320"/>
            <a:ext cx="8940600" cy="69840"/>
          </a:xfrm>
          <a:prstGeom prst="roundRect">
            <a:avLst>
              <a:gd name="adj" fmla="val 49995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 algn="ctr">
              <a:spcBef>
                <a:spcPts val="64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382680" algn="ctr">
              <a:spcBef>
                <a:spcPts val="550"/>
              </a:spcBef>
              <a:buClr>
                <a:srgbClr val="ff9933"/>
              </a:buClr>
              <a:buFont typeface="Arial"/>
              <a:buChar char="•"/>
              <a:tabLst>
                <a:tab algn="l" pos="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84120" indent="525600" algn="ctr">
              <a:spcBef>
                <a:spcPts val="476"/>
              </a:spcBef>
              <a:buClr>
                <a:srgbClr val="c0c0c0"/>
              </a:buClr>
              <a:buFont typeface="Arial"/>
              <a:buChar char="–"/>
              <a:tabLst>
                <a:tab algn="l" pos="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711440" indent="503280" algn="ctr">
              <a:spcBef>
                <a:spcPts val="476"/>
              </a:spcBef>
              <a:buClr>
                <a:srgbClr val="c0c0c0"/>
              </a:buClr>
              <a:buFont typeface="Arial"/>
              <a:buChar char="•"/>
              <a:tabLst>
                <a:tab algn="l" pos="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711440" indent="503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711440" indent="503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4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3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1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2680" y="2012760"/>
            <a:ext cx="8420040" cy="958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Escritório de Gerência de Projetos</a:t>
            </a:r>
            <a:br>
              <a:rPr sz="3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ject Management Office (PMO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0480" y="3482640"/>
            <a:ext cx="6934320" cy="622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cantonio Fabra, PM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25760" y="4586400"/>
            <a:ext cx="479520" cy="1828800"/>
          </a:xfrm>
          <a:custGeom>
            <a:avLst/>
            <a:gdLst>
              <a:gd name="textAreaLeft" fmla="*/ 64080 w 479520"/>
              <a:gd name="textAreaRight" fmla="*/ 415440 w 479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9519" t="4447" r="9519" b="5933"/>
          <a:stretch/>
        </p:blipFill>
        <p:spPr>
          <a:xfrm>
            <a:off x="2805120" y="4233960"/>
            <a:ext cx="1298520" cy="2306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25760" y="4586400"/>
            <a:ext cx="479520" cy="1828800"/>
          </a:xfrm>
          <a:custGeom>
            <a:avLst/>
            <a:gdLst>
              <a:gd name="textAreaLeft" fmla="*/ 64080 w 479520"/>
              <a:gd name="textAreaRight" fmla="*/ 415440 w 479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530520" y="1511280"/>
            <a:ext cx="4546800" cy="2413080"/>
            <a:chOff x="3530520" y="1511280"/>
            <a:chExt cx="4546800" cy="2413080"/>
          </a:xfrm>
        </p:grpSpPr>
        <p:sp>
          <p:nvSpPr>
            <p:cNvPr id="142" name=""/>
            <p:cNvSpPr/>
            <p:nvPr/>
          </p:nvSpPr>
          <p:spPr>
            <a:xfrm>
              <a:off x="3530520" y="1511280"/>
              <a:ext cx="4546800" cy="2413080"/>
            </a:xfrm>
            <a:prstGeom prst="wedgeEllipseCallout">
              <a:avLst>
                <a:gd name="adj1" fmla="val -42912"/>
                <a:gd name="adj2" fmla="val 73550"/>
              </a:avLst>
            </a:prstGeom>
            <a:gradFill rotWithShape="0">
              <a:gsLst>
                <a:gs pos="0">
                  <a:srgbClr val="000007"/>
                </a:gs>
                <a:gs pos="50000">
                  <a:srgbClr val="0000ff"/>
                </a:gs>
                <a:gs pos="100000">
                  <a:srgbClr val="000007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pPr algn="ctr"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09600" y="2217600"/>
              <a:ext cx="393768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3400" spc="-1" strike="noStrike">
                  <a:solidFill>
                    <a:srgbClr val="ffffff"/>
                  </a:solidFill>
                  <a:latin typeface="Arial"/>
                </a:rPr>
                <a:t>Para que criar um 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3400" spc="-1" strike="noStrike">
                  <a:solidFill>
                    <a:srgbClr val="ffffff"/>
                  </a:solidFill>
                  <a:latin typeface="Arial"/>
                </a:rPr>
                <a:t>PMO?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660760" y="330120"/>
            <a:ext cx="6559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Demandas típicas por um P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3960" y="1496880"/>
            <a:ext cx="8285400" cy="36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ixa performance dos pro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-uso e transferência de 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ução da proliferação de aplicativos de su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assez de recursos x pressão crescente sobre os 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mento da complexidade dos pro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ectativas dos stakeholders frus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m da “reinvenção da rod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54440" y="241200"/>
            <a:ext cx="43880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A Cadeia de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0560" y="3187800"/>
            <a:ext cx="1575000" cy="987480"/>
          </a:xfrm>
          <a:prstGeom prst="flowChartProcess">
            <a:avLst/>
          </a:prstGeom>
          <a:gradFill rotWithShape="0">
            <a:gsLst>
              <a:gs pos="0">
                <a:srgbClr val="ccff99"/>
              </a:gs>
              <a:gs pos="50000">
                <a:srgbClr val="eafed6"/>
              </a:gs>
              <a:gs pos="100000">
                <a:srgbClr val="ccff99"/>
              </a:gs>
            </a:gsLst>
            <a:lin ang="13500000"/>
          </a:gra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98600" y="3193920"/>
            <a:ext cx="1575000" cy="987480"/>
          </a:xfrm>
          <a:prstGeom prst="flowChartProcess">
            <a:avLst/>
          </a:prstGeom>
          <a:gradFill rotWithShape="0">
            <a:gsLst>
              <a:gs pos="0">
                <a:srgbClr val="ccff99"/>
              </a:gs>
              <a:gs pos="50000">
                <a:srgbClr val="eafed6"/>
              </a:gs>
              <a:gs pos="100000">
                <a:srgbClr val="ccff99"/>
              </a:gs>
            </a:gsLst>
            <a:lin ang="13500000"/>
          </a:gra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73400" y="3193920"/>
            <a:ext cx="1575000" cy="987480"/>
          </a:xfrm>
          <a:prstGeom prst="flowChartProcess">
            <a:avLst/>
          </a:prstGeom>
          <a:gradFill rotWithShape="0">
            <a:gsLst>
              <a:gs pos="0">
                <a:srgbClr val="ccff99"/>
              </a:gs>
              <a:gs pos="50000">
                <a:srgbClr val="eafed6"/>
              </a:gs>
              <a:gs pos="100000">
                <a:srgbClr val="ccff99"/>
              </a:gs>
            </a:gsLst>
            <a:lin ang="13500000"/>
          </a:gra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48200" y="3168720"/>
            <a:ext cx="1575000" cy="987480"/>
          </a:xfrm>
          <a:prstGeom prst="flowChartProcess">
            <a:avLst/>
          </a:prstGeom>
          <a:gradFill rotWithShape="0">
            <a:gsLst>
              <a:gs pos="0">
                <a:srgbClr val="ccff99"/>
              </a:gs>
              <a:gs pos="50000">
                <a:srgbClr val="eafed6"/>
              </a:gs>
              <a:gs pos="100000">
                <a:srgbClr val="ccff99"/>
              </a:gs>
            </a:gsLst>
            <a:lin ang="13500000"/>
          </a:gra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01000" y="3197160"/>
            <a:ext cx="1574640" cy="987480"/>
          </a:xfrm>
          <a:prstGeom prst="flowChartProcess">
            <a:avLst/>
          </a:prstGeom>
          <a:gradFill rotWithShape="0">
            <a:gsLst>
              <a:gs pos="0">
                <a:srgbClr val="ccff99"/>
              </a:gs>
              <a:gs pos="50000">
                <a:srgbClr val="eafed6"/>
              </a:gs>
              <a:gs pos="100000">
                <a:srgbClr val="ccff99"/>
              </a:gs>
            </a:gsLst>
            <a:lin ang="13500000"/>
          </a:gra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04920" y="369576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76840" y="3686040"/>
            <a:ext cx="18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366696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34440" y="3600360"/>
            <a:ext cx="40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31200" y="3714840"/>
            <a:ext cx="40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6880" y="1409760"/>
            <a:ext cx="1625760" cy="1270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3720" y="3413160"/>
            <a:ext cx="14263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20280" y="3400560"/>
            <a:ext cx="1324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71680" y="3400560"/>
            <a:ext cx="1427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lh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29480" y="3379680"/>
            <a:ext cx="155880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inh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004240" y="3270240"/>
            <a:ext cx="15937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gre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5960" y="1752480"/>
            <a:ext cx="163044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dução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perdí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13280" y="1434960"/>
            <a:ext cx="1625400" cy="1270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94280" y="1695600"/>
            <a:ext cx="150840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is barat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is rápid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l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84480" y="4711680"/>
            <a:ext cx="1625400" cy="1270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73280" y="5054760"/>
            <a:ext cx="8668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o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Ú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29480" y="4686480"/>
            <a:ext cx="1625400" cy="12697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4320" y="4984920"/>
            <a:ext cx="146880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colher 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j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rr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84200" y="2679840"/>
            <a:ext cx="0" cy="52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38760" y="2705040"/>
            <a:ext cx="0" cy="52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4165560"/>
            <a:ext cx="0" cy="52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97360" y="4191120"/>
            <a:ext cx="0" cy="52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71680" y="1422360"/>
            <a:ext cx="8851680" cy="4876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fe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44880" y="216000"/>
            <a:ext cx="41468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Benefícios do P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1040" y="1554120"/>
            <a:ext cx="5284800" cy="52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GERENTE DE PROJ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Arial"/>
                <a:ea typeface="Arial"/>
              </a:rPr>
              <a:t>•</a:t>
            </a:r>
            <a:r>
              <a:rPr b="0" lang="pt-B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ramework para Gerência de proje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Arial"/>
                <a:ea typeface="Arial"/>
              </a:rPr>
              <a:t>•</a:t>
            </a:r>
            <a:r>
              <a:rPr b="0" lang="pt-B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artilhamento de Linguagem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lhores prá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Arial"/>
                <a:ea typeface="Arial"/>
              </a:rPr>
              <a:t>•</a:t>
            </a:r>
            <a:r>
              <a:rPr b="0" lang="pt-B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mbiente Motiv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GERENCIA EXECU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Arial"/>
                <a:ea typeface="Arial"/>
              </a:rPr>
              <a:t>•</a:t>
            </a:r>
            <a:r>
              <a:rPr b="0" lang="pt-B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atibilidade entre propostas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Arial"/>
                <a:ea typeface="Arial"/>
              </a:rPr>
              <a:t>•</a:t>
            </a:r>
            <a:r>
              <a:rPr b="0" lang="pt-B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formação útil e disponível a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Arial"/>
                <a:ea typeface="Arial"/>
              </a:rPr>
              <a:t>•</a:t>
            </a:r>
            <a:r>
              <a:rPr b="0" lang="pt-B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ole Monitoramento do Portfól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proj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Arial"/>
                <a:ea typeface="Arial"/>
              </a:rPr>
              <a:t>•</a:t>
            </a:r>
            <a:r>
              <a:rPr b="0" lang="pt-B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ole de Mudanç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51360" y="1600200"/>
            <a:ext cx="4813200" cy="44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Arial"/>
                <a:ea typeface="Arial"/>
              </a:rPr>
              <a:t>•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lhores projetos – melhor experiência –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lhor satisf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Arial"/>
                <a:ea typeface="Arial"/>
              </a:rPr>
              <a:t>•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vo ponto de con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Arial"/>
                <a:ea typeface="Arial"/>
              </a:rPr>
              <a:t>•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dução de risco e do re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Arial"/>
                <a:ea typeface="Arial"/>
              </a:rPr>
              <a:t>•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arantia de qu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ff9933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ORGAN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Arial"/>
                <a:ea typeface="Arial"/>
              </a:rPr>
              <a:t>•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inhamento com a estratégia de negó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Arial"/>
                <a:ea typeface="Arial"/>
              </a:rPr>
              <a:t>•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s mais previsív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Arial"/>
                <a:ea typeface="Arial"/>
              </a:rPr>
              <a:t>•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escimento baseado em maio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ucrativ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Arial"/>
                <a:ea typeface="Arial"/>
              </a:rPr>
              <a:t>•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lhoria geral da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13200" y="1422360"/>
            <a:ext cx="0" cy="487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4280" y="3657600"/>
            <a:ext cx="883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42960" y="368280"/>
            <a:ext cx="7461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Fatores para o insucesso de proje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8760" y="1332000"/>
            <a:ext cx="832320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lha na identificação ou gerenciamento de expect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derança pobre em vários ní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os e processos de planejamento po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lta de alinhamento cultural e 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alinhamento entre a equipe do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o negó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 inadeq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15558" t="0" r="0" b="5556"/>
          <a:stretch/>
        </p:blipFill>
        <p:spPr>
          <a:xfrm>
            <a:off x="6843600" y="4130640"/>
            <a:ext cx="25671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42960" y="177840"/>
            <a:ext cx="74613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Fatores para o sucesso de proje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5480" y="1446120"/>
            <a:ext cx="8323560" cy="48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oio da alta administ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volvimento de usu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eriência do gerente do pro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reza dos objetivos do negó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opo reduz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imativa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dronização da infra-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-1033" t="12504" r="0" b="0"/>
          <a:stretch/>
        </p:blipFill>
        <p:spPr>
          <a:xfrm>
            <a:off x="6203880" y="3513240"/>
            <a:ext cx="31179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631880" y="177840"/>
            <a:ext cx="74613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Fatores para o sucesso do PM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8760" y="1611360"/>
            <a:ext cx="83232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trocínio ex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inhamento com os objetiv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péis e responsabilidades bem defi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ra-estrutura, facilidade e equipamentos ded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629400" y="4680000"/>
            <a:ext cx="23796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rcRect l="16926" t="37100" r="18491" b="10212"/>
          <a:stretch/>
        </p:blipFill>
        <p:spPr>
          <a:xfrm>
            <a:off x="749160" y="1476360"/>
            <a:ext cx="7836120" cy="4645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24000" y="279360"/>
            <a:ext cx="87692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Alinhamento estratégico dos proje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78400" y="228600"/>
            <a:ext cx="3791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O Elo Perd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30079" t="38533" r="32031" b="25942"/>
          <a:stretch/>
        </p:blipFill>
        <p:spPr>
          <a:xfrm>
            <a:off x="1812960" y="1384200"/>
            <a:ext cx="5724360" cy="3899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430000" y="5237280"/>
            <a:ext cx="488556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Gerentes de Projeto e inici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ligadas a gestão de pro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631880" y="177840"/>
            <a:ext cx="74613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Porque não implementar um PM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1800" y="1459080"/>
            <a:ext cx="832320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é possível gerar provas de incremento no sucess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s pro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ntra o poder em parte d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apalha as iniciativas dos gerentes de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mento de cu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imula a burocra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imula a disputa por poder dentro d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03120" y="240840"/>
            <a:ext cx="5886360" cy="622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Apresentação do expositor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25760" y="4586400"/>
            <a:ext cx="479520" cy="1828800"/>
          </a:xfrm>
          <a:custGeom>
            <a:avLst/>
            <a:gdLst>
              <a:gd name="textAreaLeft" fmla="*/ 64080 w 479520"/>
              <a:gd name="textAreaRight" fmla="*/ 415440 w 479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3840" y="1981080"/>
            <a:ext cx="8839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alista de Sistemas, formado em Informática pel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C-R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m 1985, possui 18 anos de    experiência em informática e 10 anos de experiência em Gerenciamento de Projet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fessor agregado do Bacharelado em Informática d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C-R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sde 1987, na cadeira d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rência de Projetos em 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 também como professor orientador de monografia fin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ertificado com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 Professional (PMP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pe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M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m Dezembro de 2002, possui também o título d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ster in Project Management pelo George Washington Univers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 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BA em Gerência de Projetos pela FGV-R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estrando do Mestrado Profissional em Logística d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PUC-RJ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(strictu sensu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I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 cinco anos já foi gerente da área de Implementação de Ferramentas e Métodos da Diretoria de Sistemas e, atualmente, é um dos responsáveis pela área de metodologia e ferramentas da Divisão de Projetos (PMO da Vice-presidência de Tecnologi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113040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Marcantonio Fabra, P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09360" y="279360"/>
            <a:ext cx="7550280" cy="558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As frases que um PMO pode evitar ..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2960" y="1825560"/>
            <a:ext cx="533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pt-BR" sz="1200" spc="-1" strike="noStrike">
                <a:solidFill>
                  <a:srgbClr val="000066"/>
                </a:solidFill>
                <a:latin typeface="Arial"/>
              </a:rPr>
              <a:t>Sempre acaba faltando alguma atividade e o projeto sempre atrasa !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5120" y="2130480"/>
            <a:ext cx="595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pt-BR" sz="1200" spc="-1" strike="noStrike">
                <a:solidFill>
                  <a:srgbClr val="000066"/>
                </a:solidFill>
                <a:latin typeface="Arial"/>
              </a:rPr>
              <a:t>Os objetivos deste projeto não estão claros para a equipe que participa de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6200" y="2465280"/>
            <a:ext cx="44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pt-BR" sz="1200" spc="-1" strike="noStrike">
                <a:solidFill>
                  <a:srgbClr val="000066"/>
                </a:solidFill>
                <a:latin typeface="Arial"/>
              </a:rPr>
              <a:t>Mas a nossa Diretoria não está sabendo deste projeto...”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5120" y="2770200"/>
            <a:ext cx="543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pt-BR" sz="1200" spc="-1" strike="noStrike">
                <a:solidFill>
                  <a:srgbClr val="000066"/>
                </a:solidFill>
                <a:latin typeface="Arial"/>
              </a:rPr>
              <a:t>Não tenho a mínima idéia de quem é o responsável por esta atividad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3075120"/>
            <a:ext cx="662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pt-BR" sz="1200" spc="-1" strike="noStrike">
                <a:solidFill>
                  <a:srgbClr val="000066"/>
                </a:solidFill>
                <a:latin typeface="Arial"/>
              </a:rPr>
              <a:t>Será que alguém pode me mostrar um relatório listando todos os nossos projetos ?!?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8400" y="1339920"/>
            <a:ext cx="54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 Unicode MS"/>
              </a:rPr>
              <a:t>(Frases do cotidiano das organizações sem um PM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9000" y="3379680"/>
            <a:ext cx="676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66"/>
                </a:solidFill>
                <a:latin typeface="Arial"/>
              </a:rPr>
              <a:t>CIO: “Mas as minhas áreas de sistemas trabalham de forma diferente em seus projetos..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2160" y="3684600"/>
            <a:ext cx="83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66"/>
                </a:solidFill>
                <a:latin typeface="Arial"/>
              </a:rPr>
              <a:t>Gerente de Sistemas: “Meus analistas de sistemas não conseguem definir bem o escopo de um novo projeto..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49600" y="3989520"/>
            <a:ext cx="625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pt-BR" sz="1200" spc="-1" strike="noStrike">
                <a:solidFill>
                  <a:srgbClr val="000066"/>
                </a:solidFill>
                <a:latin typeface="Arial"/>
              </a:rPr>
              <a:t>O projeto X está documentado, mas os projetos Y e Z não tem nem cronograma..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55360" y="4294080"/>
            <a:ext cx="442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66"/>
                </a:solidFill>
                <a:latin typeface="Arial"/>
              </a:rPr>
              <a:t>Patrocinador do projeto:  “Mas não foi isso que eu pedi !!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34480" y="4568760"/>
            <a:ext cx="623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pt-BR" sz="1200" spc="-1" strike="noStrike">
                <a:solidFill>
                  <a:srgbClr val="000066"/>
                </a:solidFill>
                <a:latin typeface="Arial"/>
              </a:rPr>
              <a:t>Precisamos incluir mais esta funcionalidade no escopo. Ah, esta outra também !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4876920"/>
            <a:ext cx="70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pt-BR" sz="1200" spc="-1" strike="noStrike">
                <a:solidFill>
                  <a:srgbClr val="000066"/>
                </a:solidFill>
                <a:latin typeface="Arial"/>
              </a:rPr>
              <a:t>Mas a decisão por esta tecnologia não seguiu nossos padrões. E agora, ? Quem vai manter este sistema ?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48520" y="5330880"/>
            <a:ext cx="721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66"/>
                </a:solidFill>
                <a:latin typeface="Arial"/>
              </a:rPr>
              <a:t>CIO: “Que nota é esta para pagar ??”  Gerente de Sistemas: “Foi a alteração que o MKT pediu !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3560" y="5635800"/>
            <a:ext cx="72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66"/>
                </a:solidFill>
                <a:latin typeface="Arial"/>
              </a:rPr>
              <a:t>Depois do projeto: “Mas eu pensava que nosso produto teria um pouquinha mais de qualidade..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5989680"/>
            <a:ext cx="665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66"/>
                </a:solidFill>
                <a:latin typeface="Arial"/>
              </a:rPr>
              <a:t>CIO: “Tenho uma reunião daqui há 30 minutos e preciso de um status de todos os nossos projetos”...” Como não temos ?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66760" y="4724280"/>
            <a:ext cx="1247760" cy="152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543800" y="1447920"/>
            <a:ext cx="17524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25760" y="4586400"/>
            <a:ext cx="479520" cy="1828800"/>
          </a:xfrm>
          <a:custGeom>
            <a:avLst/>
            <a:gdLst>
              <a:gd name="textAreaLeft" fmla="*/ 64080 w 479520"/>
              <a:gd name="textAreaRight" fmla="*/ 415440 w 479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25760" y="4586400"/>
            <a:ext cx="479520" cy="1828800"/>
          </a:xfrm>
          <a:custGeom>
            <a:avLst/>
            <a:gdLst>
              <a:gd name="textAreaLeft" fmla="*/ 64080 w 479520"/>
              <a:gd name="textAreaRight" fmla="*/ 415440 w 479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9519" t="4447" r="9519" b="5933"/>
          <a:stretch/>
        </p:blipFill>
        <p:spPr>
          <a:xfrm>
            <a:off x="2805120" y="4233960"/>
            <a:ext cx="1298520" cy="2306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525760" y="4586400"/>
            <a:ext cx="479520" cy="1828800"/>
          </a:xfrm>
          <a:custGeom>
            <a:avLst/>
            <a:gdLst>
              <a:gd name="textAreaLeft" fmla="*/ 64080 w 479520"/>
              <a:gd name="textAreaRight" fmla="*/ 415440 w 479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96360" y="1511280"/>
            <a:ext cx="5093640" cy="3254040"/>
            <a:chOff x="3096360" y="1511280"/>
            <a:chExt cx="5093640" cy="3254040"/>
          </a:xfrm>
        </p:grpSpPr>
        <p:sp>
          <p:nvSpPr>
            <p:cNvPr id="219" name=""/>
            <p:cNvSpPr/>
            <p:nvPr/>
          </p:nvSpPr>
          <p:spPr>
            <a:xfrm>
              <a:off x="3436920" y="4160880"/>
              <a:ext cx="475308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400" spc="-1" strike="noStrike">
                  <a:solidFill>
                    <a:srgbClr val="ffffff"/>
                  </a:solidFill>
                  <a:latin typeface="Arial"/>
                </a:rPr>
                <a:t>Características do PMO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96360" y="1849320"/>
              <a:ext cx="391176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400" spc="-1" strike="noStrike">
                  <a:solidFill>
                    <a:srgbClr val="ffffff"/>
                  </a:solidFill>
                  <a:latin typeface="Arial"/>
                </a:rPr>
                <a:t>Introdução ao PMO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30520" y="1511280"/>
              <a:ext cx="4546800" cy="2413080"/>
            </a:xfrm>
            <a:prstGeom prst="wedgeEllipseCallout">
              <a:avLst>
                <a:gd name="adj1" fmla="val -42912"/>
                <a:gd name="adj2" fmla="val 73550"/>
              </a:avLst>
            </a:prstGeom>
            <a:gradFill rotWithShape="0">
              <a:gsLst>
                <a:gs pos="0">
                  <a:srgbClr val="000007"/>
                </a:gs>
                <a:gs pos="50000">
                  <a:srgbClr val="0000ff"/>
                </a:gs>
                <a:gs pos="100000">
                  <a:srgbClr val="000007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pPr algn="ctr"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82960" y="2217600"/>
              <a:ext cx="40050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3400" spc="-1" strike="noStrike">
                  <a:solidFill>
                    <a:srgbClr val="ffffff"/>
                  </a:solidFill>
                  <a:latin typeface="Arial"/>
                </a:rPr>
                <a:t>Características de 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3400" spc="-1" strike="noStrike">
                  <a:solidFill>
                    <a:srgbClr val="ffffff"/>
                  </a:solidFill>
                  <a:latin typeface="Arial"/>
                </a:rPr>
                <a:t>um PMO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63520" y="1103400"/>
            <a:ext cx="9288360" cy="25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ntro de suporte a projetos (unificação de esforç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9933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co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9933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9933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rç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9933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9933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cursos (interno e extern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9933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is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9933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unic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40320" y="190440"/>
            <a:ext cx="460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Missão do P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6360" y="3708360"/>
            <a:ext cx="9364680" cy="19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volvimento  e   disseminação   de    práticas / métod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enciamento de pro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atação, “coaching”e desenvolvimento da carreira dos G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ministração das ferramentas de su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5765760"/>
            <a:ext cx="8102520" cy="596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78920" y="5862600"/>
            <a:ext cx="79383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linhamento estratégico dos projetos com os objetivos da organ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603680" y="241200"/>
            <a:ext cx="4413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400" spc="-1" strike="noStrike">
                <a:solidFill>
                  <a:srgbClr val="000000"/>
                </a:solidFill>
                <a:latin typeface="Arial"/>
              </a:rPr>
              <a:t>As Funções do PM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44600" y="1760400"/>
          <a:ext cx="9004320" cy="3951360"/>
        </p:xfrm>
        <a:graphic>
          <a:graphicData uri="http://schemas.openxmlformats.org/drawingml/2006/table">
            <a:tbl>
              <a:tblPr/>
              <a:tblGrid>
                <a:gridCol w="1800000"/>
                <a:gridCol w="1801800"/>
                <a:gridCol w="1800360"/>
                <a:gridCol w="1801800"/>
                <a:gridCol w="1800360"/>
              </a:tblGrid>
              <a:tr h="62388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étodo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ocedime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erência 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fra-estru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erência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cu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erência Téc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egração com o Negóc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6840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rocessos do ciclo de vida e da empr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Estrutura e   Organiz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Contrat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olí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todolo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Siste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Trein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erência de Portfól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municação e Rep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Análi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Desenv. da Carrei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Interfaces funcion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Gerência de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Métricas e Padrõ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Avaliação de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lioteca e Arqu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erência de Cl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Gerência de Mudanç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Equipamentos e Facil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Contratação de tercei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ência Téc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Melhoria Contínu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871640" y="1015920"/>
            <a:ext cx="33098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03680" y="241200"/>
            <a:ext cx="4413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400" spc="-1" strike="noStrike">
                <a:solidFill>
                  <a:srgbClr val="000000"/>
                </a:solidFill>
                <a:latin typeface="Arial"/>
              </a:rPr>
              <a:t>As Funções do PM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44600" y="1760400"/>
          <a:ext cx="9004320" cy="3951360"/>
        </p:xfrm>
        <a:graphic>
          <a:graphicData uri="http://schemas.openxmlformats.org/drawingml/2006/table">
            <a:tbl>
              <a:tblPr/>
              <a:tblGrid>
                <a:gridCol w="1800000"/>
                <a:gridCol w="1801800"/>
                <a:gridCol w="1800360"/>
                <a:gridCol w="1801800"/>
                <a:gridCol w="1800360"/>
              </a:tblGrid>
              <a:tr h="62388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étodo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ocedime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erência 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fra-estru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erência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cu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erência Téc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egração com o Negóc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6840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rocessos do ciclo de vida e da empr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Estrutura e   Organiz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Contrat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olí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todolo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Siste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Trein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erência de Portfól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municação e Rep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Análi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Desenv. da Carrei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Interfaces funcion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Gerência de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Métricas e Padrõ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Avaliação de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lioteca e Arqu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erência de Cl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Gerência de Mudanç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Equipamentos e Facil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Contratação de tercei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ência Téc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Melhoria Contínu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560760" y="200160"/>
            <a:ext cx="4054320" cy="35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603680" y="241200"/>
            <a:ext cx="4413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400" spc="-1" strike="noStrike">
                <a:solidFill>
                  <a:srgbClr val="000000"/>
                </a:solidFill>
                <a:latin typeface="Arial"/>
              </a:rPr>
              <a:t>As Funções do PM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44600" y="1760400"/>
          <a:ext cx="9004320" cy="3951360"/>
        </p:xfrm>
        <a:graphic>
          <a:graphicData uri="http://schemas.openxmlformats.org/drawingml/2006/table">
            <a:tbl>
              <a:tblPr/>
              <a:tblGrid>
                <a:gridCol w="1800000"/>
                <a:gridCol w="1801800"/>
                <a:gridCol w="1800360"/>
                <a:gridCol w="1801800"/>
                <a:gridCol w="1800360"/>
              </a:tblGrid>
              <a:tr h="62388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étodo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ocedime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erência 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fra-estru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erência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cu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erência Téc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egração com o Negóc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6840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rocessos do ciclo de vida e da empr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Estrutura e   Organiz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Contrat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olí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todolo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Siste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Trein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erência de Portfól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municação e Rep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Análi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Desenv. da Carrei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Interfaces funcion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Gerência de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Métricas e Padrõ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Avaliação de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lioteca e Arqu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erência de Cl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Gerência de Mudanç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Equipamentos e Facil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Contratação de tercei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ência Téc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Melhoria Contínu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452920" y="569880"/>
            <a:ext cx="36734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603680" y="241200"/>
            <a:ext cx="4413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400" spc="-1" strike="noStrike">
                <a:solidFill>
                  <a:srgbClr val="000000"/>
                </a:solidFill>
                <a:latin typeface="Arial"/>
              </a:rPr>
              <a:t>As Funções do PM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44600" y="1760400"/>
          <a:ext cx="9004320" cy="3951360"/>
        </p:xfrm>
        <a:graphic>
          <a:graphicData uri="http://schemas.openxmlformats.org/drawingml/2006/table">
            <a:tbl>
              <a:tblPr/>
              <a:tblGrid>
                <a:gridCol w="1800000"/>
                <a:gridCol w="1801800"/>
                <a:gridCol w="1800360"/>
                <a:gridCol w="1801800"/>
                <a:gridCol w="1800360"/>
              </a:tblGrid>
              <a:tr h="62388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étodo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ocedime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erência 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fra-estru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erência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cu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erência Téc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egração com o Negóc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6840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rocessos do ciclo de vida e da empr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Estrutura e   Organiz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Contrat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olí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todolo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Siste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Trein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erência de Portfól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municação e Rep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Análi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Desenv. da Carrei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Interfaces funcion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Gerência de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Métricas e Padrõ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Avaliação de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lioteca e Arqu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erência de Cl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Gerência de Mudanç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Equipamentos e Facil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Contratação de tercei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ência Téc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Melhoria Contínu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862600" y="2666880"/>
            <a:ext cx="40435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444600" y="1760400"/>
          <a:ext cx="9004320" cy="3951360"/>
        </p:xfrm>
        <a:graphic>
          <a:graphicData uri="http://schemas.openxmlformats.org/drawingml/2006/table">
            <a:tbl>
              <a:tblPr/>
              <a:tblGrid>
                <a:gridCol w="1800000"/>
                <a:gridCol w="1801800"/>
                <a:gridCol w="1800360"/>
                <a:gridCol w="1801800"/>
                <a:gridCol w="1800360"/>
              </a:tblGrid>
              <a:tr h="62388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étodo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ocedime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erência 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fra-estru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erência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cu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erência Téc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egração com o Negóc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6840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rocessos do ciclo de vida e da empr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Estrutura e   Organiz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Contrat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olí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todolo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Siste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Trein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erência de Portfól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municação e Rep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Análi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Desenv. da Carrei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Interfaces funcion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Gerência de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Métricas e Padrõ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Avaliação de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lioteca e Arqu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erência de Cl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Gerência de Mudanç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Equipamentos e Facil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Contratação de tercei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ência Téc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5720"/>
                          <a:tab algn="l" pos="1711440"/>
                          <a:tab algn="l" pos="2567160"/>
                          <a:tab algn="l" pos="3422520"/>
                          <a:tab algn="l" pos="4278240"/>
                          <a:tab algn="l" pos="5133960"/>
                          <a:tab algn="l" pos="5989680"/>
                          <a:tab algn="l" pos="6845400"/>
                          <a:tab algn="l" pos="7701120"/>
                          <a:tab algn="l" pos="8556480"/>
                          <a:tab algn="l" pos="9412200"/>
                          <a:tab algn="l" pos="10267920"/>
                        </a:tabLst>
                      </a:pP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Melhoria Contínu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4603680" y="241200"/>
            <a:ext cx="4413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400" spc="-1" strike="noStrike">
                <a:solidFill>
                  <a:srgbClr val="000000"/>
                </a:solidFill>
                <a:latin typeface="Arial"/>
              </a:rPr>
              <a:t>As Funções do PM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924360" y="1006560"/>
            <a:ext cx="411300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508120" y="190440"/>
            <a:ext cx="685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osições Possíveis em um P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040" y="1433520"/>
            <a:ext cx="9301320" cy="41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ief Project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entes de Pro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ecialistas em 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ecialistas em Docum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ordenador de Suporte Administ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ordenador de Comun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ordenador de Controle de Mudanç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ordenador de Gerenciamento de R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825640" y="127080"/>
            <a:ext cx="6597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erviços mais freqüente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restados em um P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4120" y="1566720"/>
            <a:ext cx="64062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2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lementação de metodologia e padr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ul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n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ei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mpanhamento de pro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rte administrativo aos pro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enciamento de portfó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ositórios de informações de pro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rramentas de gerenciamento de pro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atação de gerentes de pro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333440" y="1359000"/>
            <a:ext cx="3187800" cy="1600200"/>
            <a:chOff x="1333440" y="1359000"/>
            <a:chExt cx="3187800" cy="1600200"/>
          </a:xfrm>
        </p:grpSpPr>
        <p:sp>
          <p:nvSpPr>
            <p:cNvPr id="97" name=""/>
            <p:cNvSpPr/>
            <p:nvPr/>
          </p:nvSpPr>
          <p:spPr>
            <a:xfrm>
              <a:off x="1333440" y="1359000"/>
              <a:ext cx="3187800" cy="16002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66"/>
                </a:gs>
              </a:gsLst>
              <a:lin ang="135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99920" y="1655640"/>
              <a:ext cx="264528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ff0000"/>
                  </a:solidFill>
                  <a:latin typeface="Arial"/>
                </a:rPr>
                <a:t>Necessidade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ff0000"/>
                  </a:solidFill>
                  <a:latin typeface="Arial"/>
                </a:rPr>
                <a:t>de Negóc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813200" y="1447920"/>
            <a:ext cx="3187800" cy="1600200"/>
            <a:chOff x="4813200" y="1447920"/>
            <a:chExt cx="3187800" cy="1600200"/>
          </a:xfrm>
        </p:grpSpPr>
        <p:sp>
          <p:nvSpPr>
            <p:cNvPr id="100" name=""/>
            <p:cNvSpPr/>
            <p:nvPr/>
          </p:nvSpPr>
          <p:spPr>
            <a:xfrm>
              <a:off x="4813200" y="1447920"/>
              <a:ext cx="3187800" cy="1600200"/>
            </a:xfrm>
            <a:prstGeom prst="ellipse">
              <a:avLst/>
            </a:prstGeom>
            <a:gradFill rotWithShape="0">
              <a:gsLst>
                <a:gs pos="0">
                  <a:srgbClr val="66ff99"/>
                </a:gs>
                <a:gs pos="50000">
                  <a:srgbClr val="fefefe"/>
                </a:gs>
                <a:gs pos="100000">
                  <a:srgbClr val="66ff99"/>
                </a:gs>
              </a:gsLst>
              <a:lin ang="13500000"/>
            </a:gra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800" y="1757520"/>
              <a:ext cx="230868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6600"/>
                  </a:solidFill>
                  <a:latin typeface="Arial"/>
                </a:rPr>
                <a:t>Gerência d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6600"/>
                  </a:solidFill>
                  <a:latin typeface="Arial"/>
                </a:rPr>
                <a:t>Progra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149640" y="4826160"/>
            <a:ext cx="3187800" cy="1600200"/>
            <a:chOff x="3149640" y="4826160"/>
            <a:chExt cx="3187800" cy="1600200"/>
          </a:xfrm>
        </p:grpSpPr>
        <p:sp>
          <p:nvSpPr>
            <p:cNvPr id="103" name=""/>
            <p:cNvSpPr/>
            <p:nvPr/>
          </p:nvSpPr>
          <p:spPr>
            <a:xfrm>
              <a:off x="3149640" y="4826160"/>
              <a:ext cx="3187800" cy="160020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e5f4fe"/>
                </a:gs>
                <a:gs pos="100000">
                  <a:srgbClr val="ccecff"/>
                </a:gs>
              </a:gsLst>
              <a:lin ang="13500000"/>
            </a:gra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7080" y="5135400"/>
              <a:ext cx="220968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99"/>
                  </a:solidFill>
                  <a:latin typeface="Arial"/>
                </a:rPr>
                <a:t>Gerência 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99"/>
                  </a:solidFill>
                  <a:latin typeface="Arial"/>
                </a:rPr>
                <a:t>Proje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00280" y="3187800"/>
            <a:ext cx="3187440" cy="1600200"/>
            <a:chOff x="800280" y="3187800"/>
            <a:chExt cx="3187440" cy="1600200"/>
          </a:xfrm>
        </p:grpSpPr>
        <p:sp>
          <p:nvSpPr>
            <p:cNvPr id="106" name=""/>
            <p:cNvSpPr/>
            <p:nvPr/>
          </p:nvSpPr>
          <p:spPr>
            <a:xfrm>
              <a:off x="800280" y="3187800"/>
              <a:ext cx="3187440" cy="160020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11480" y="3510000"/>
              <a:ext cx="207108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3399"/>
                  </a:solidFill>
                  <a:latin typeface="Arial"/>
                </a:rPr>
                <a:t>Processo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3399"/>
                  </a:solidFill>
                  <a:latin typeface="Arial"/>
                </a:rPr>
                <a:t>de G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448240" y="3187800"/>
            <a:ext cx="3187800" cy="1600200"/>
            <a:chOff x="5448240" y="3187800"/>
            <a:chExt cx="3187800" cy="1600200"/>
          </a:xfrm>
        </p:grpSpPr>
        <p:sp>
          <p:nvSpPr>
            <p:cNvPr id="109" name=""/>
            <p:cNvSpPr/>
            <p:nvPr/>
          </p:nvSpPr>
          <p:spPr>
            <a:xfrm>
              <a:off x="5448240" y="3187800"/>
              <a:ext cx="3187800" cy="1600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d7d7d7"/>
                </a:gs>
                <a:gs pos="100000">
                  <a:srgbClr val="5f5f5f"/>
                </a:gs>
              </a:gsLst>
              <a:lin ang="13500000"/>
            </a:gra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spAutoFit/>
            </a:bodyPr>
            <a:p>
              <a:pPr algn="ctr"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96080" y="3510000"/>
              <a:ext cx="220968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Arial"/>
                </a:rPr>
                <a:t>Gerência 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Arial"/>
                </a:rPr>
                <a:t>Portfól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459080" y="272880"/>
            <a:ext cx="777204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Consolidando alguns conceitos-chaves 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323240" y="4437000"/>
            <a:ext cx="53870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odelos e posicionamento hierárqu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25760" y="4586400"/>
            <a:ext cx="479520" cy="1828800"/>
          </a:xfrm>
          <a:custGeom>
            <a:avLst/>
            <a:gdLst>
              <a:gd name="textAreaLeft" fmla="*/ 64080 w 479520"/>
              <a:gd name="textAreaRight" fmla="*/ 415440 w 479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25760" y="4586400"/>
            <a:ext cx="479520" cy="1828800"/>
          </a:xfrm>
          <a:custGeom>
            <a:avLst/>
            <a:gdLst>
              <a:gd name="textAreaLeft" fmla="*/ 64080 w 479520"/>
              <a:gd name="textAreaRight" fmla="*/ 415440 w 479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rcRect l="9519" t="4447" r="9519" b="5933"/>
          <a:stretch/>
        </p:blipFill>
        <p:spPr>
          <a:xfrm>
            <a:off x="2805120" y="4233960"/>
            <a:ext cx="1298520" cy="2306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525760" y="4586400"/>
            <a:ext cx="479520" cy="1828800"/>
          </a:xfrm>
          <a:custGeom>
            <a:avLst/>
            <a:gdLst>
              <a:gd name="textAreaLeft" fmla="*/ 64080 w 479520"/>
              <a:gd name="textAreaRight" fmla="*/ 415440 w 479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096360" y="1511280"/>
            <a:ext cx="4980960" cy="2413080"/>
            <a:chOff x="3096360" y="1511280"/>
            <a:chExt cx="4980960" cy="2413080"/>
          </a:xfrm>
        </p:grpSpPr>
        <p:sp>
          <p:nvSpPr>
            <p:cNvPr id="253" name=""/>
            <p:cNvSpPr/>
            <p:nvPr/>
          </p:nvSpPr>
          <p:spPr>
            <a:xfrm>
              <a:off x="3096360" y="1849320"/>
              <a:ext cx="391176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400" spc="-1" strike="noStrike">
                  <a:solidFill>
                    <a:srgbClr val="ffffff"/>
                  </a:solidFill>
                  <a:latin typeface="Arial"/>
                </a:rPr>
                <a:t>Introdução ao PMO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30520" y="1511280"/>
              <a:ext cx="4546800" cy="2413080"/>
            </a:xfrm>
            <a:prstGeom prst="wedgeEllipseCallout">
              <a:avLst>
                <a:gd name="adj1" fmla="val -42912"/>
                <a:gd name="adj2" fmla="val 73550"/>
              </a:avLst>
            </a:prstGeom>
            <a:gradFill rotWithShape="0">
              <a:gsLst>
                <a:gs pos="0">
                  <a:srgbClr val="000007"/>
                </a:gs>
                <a:gs pos="50000">
                  <a:srgbClr val="0000ff"/>
                </a:gs>
                <a:gs pos="100000">
                  <a:srgbClr val="000007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pPr algn="ctr"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92600" y="2128680"/>
              <a:ext cx="419832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3400" spc="-1" strike="noStrike">
                  <a:solidFill>
                    <a:srgbClr val="ffffff"/>
                  </a:solidFill>
                  <a:latin typeface="Arial"/>
                </a:rPr>
                <a:t>Os diferentes tipos 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3400" spc="-1" strike="noStrike">
                  <a:solidFill>
                    <a:srgbClr val="ffffff"/>
                  </a:solidFill>
                  <a:latin typeface="Arial"/>
                </a:rPr>
                <a:t>de PMO´s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2080" y="50760"/>
            <a:ext cx="822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Modelo Estação Meteorológic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(weather st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2040" y="1536840"/>
            <a:ext cx="87868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mpanhamento simples e reporte de andamento  d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os para a alta administ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68884" t="46779" r="19661" b="38355"/>
          <a:stretch/>
        </p:blipFill>
        <p:spPr>
          <a:xfrm>
            <a:off x="7550280" y="2527200"/>
            <a:ext cx="2079360" cy="1960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22640" y="2692440"/>
            <a:ext cx="693360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ção de parâmetros, freqüência, formato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rramentas para re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720" y="3657600"/>
            <a:ext cx="67734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exerce influência nos projetos analis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5760" y="4457880"/>
            <a:ext cx="911052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ponde a perguntas do tipo: qual foi o progresso, quanto já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i pago até agora e quais os principais problemas  e risc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8840" y="5638680"/>
            <a:ext cx="83188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 comparação e identificação de melhores pr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62080" y="50760"/>
            <a:ext cx="822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Modelo Torre de Control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(Control T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5200" y="1625760"/>
            <a:ext cx="6573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ções combinadas com o modelo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8040" y="2235240"/>
            <a:ext cx="669276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ta o gerenciamento de projetos 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processo de negó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4800" y="3200400"/>
            <a:ext cx="686016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mpenha as funções básicas de definiçã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seminação e melh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8240" y="4152960"/>
            <a:ext cx="642456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reforçar  os padrões é necessári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teça audi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0640" y="5219640"/>
            <a:ext cx="882972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ponsável por passar instruções para que se  minim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identes com proje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68231" t="42298" r="20835" b="39249"/>
          <a:stretch/>
        </p:blipFill>
        <p:spPr>
          <a:xfrm>
            <a:off x="7520040" y="2273400"/>
            <a:ext cx="19051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62080" y="50760"/>
            <a:ext cx="822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Modelo Pool de Recurs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(Resource Po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960" y="1587600"/>
            <a:ext cx="895500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just">
              <a:lnSpc>
                <a:spcPct val="10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 preencher   a   lacuna   ligada  à  contratação,   a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volvimento e à retenção de profissionais de pro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5760" y="2489040"/>
            <a:ext cx="625464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ponsável  pela   contratação      direta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tes profiss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2520" y="4432320"/>
            <a:ext cx="801252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ica a alocação dos profissionais nos diferentes t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projetos da organiz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0200" y="3416400"/>
            <a:ext cx="897732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ponsável por manter um banco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experiências e hab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023240" y="2489040"/>
            <a:ext cx="230508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575160" y="50760"/>
            <a:ext cx="5479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Modelos X Tipos de proje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rcRect l="29038" t="33691" r="35679" b="24911"/>
          <a:stretch/>
        </p:blipFill>
        <p:spPr>
          <a:xfrm>
            <a:off x="1157400" y="1320840"/>
            <a:ext cx="67165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575160" y="279360"/>
            <a:ext cx="5479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Estágios de um PM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46240" y="4352760"/>
            <a:ext cx="112860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94000" y="4352760"/>
            <a:ext cx="11318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 Unicode MS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19400" y="4525920"/>
            <a:ext cx="11304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41760" y="4525920"/>
            <a:ext cx="11318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 Unicode MS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95440" y="4699080"/>
            <a:ext cx="113040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90960" y="4699080"/>
            <a:ext cx="1130040" cy="434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 Unicode MS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70040" y="4873680"/>
            <a:ext cx="11289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38360" y="4873680"/>
            <a:ext cx="11322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99"/>
                </a:solidFill>
                <a:latin typeface="Arial Unicode MS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1760" y="5046840"/>
            <a:ext cx="113004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66"/>
                </a:solidFill>
                <a:latin typeface="Arial Unicode MS"/>
              </a:rPr>
              <a:t>Proje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99000" y="5046840"/>
            <a:ext cx="1131840" cy="43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99"/>
                </a:solidFill>
                <a:latin typeface="Arial Unicode MS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48200" y="1574640"/>
            <a:ext cx="1130400" cy="433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 Unicode MS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90960" y="2443320"/>
            <a:ext cx="1130040" cy="43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 Unicode MS"/>
              </a:rPr>
              <a:t>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87560" y="2443320"/>
            <a:ext cx="1481040" cy="43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 Unicode MS"/>
              </a:rPr>
              <a:t>Finance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43360" y="2443320"/>
            <a:ext cx="1479600" cy="43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 Unicode MS"/>
              </a:rPr>
              <a:t>Ve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72160" y="2355840"/>
            <a:ext cx="2262240" cy="520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 Unicode MS"/>
              </a:rPr>
              <a:t>Project Office Estratég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84520" y="2182680"/>
            <a:ext cx="591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84520" y="218268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13320" y="218268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40320" y="218268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04000" y="218268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3484440"/>
            <a:ext cx="1131840" cy="433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 Unicode MS"/>
              </a:rPr>
              <a:t>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1920" y="3484440"/>
            <a:ext cx="1131840" cy="433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 Unicode MS"/>
              </a:rPr>
              <a:t>Inf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86120" y="3484440"/>
            <a:ext cx="1479600" cy="433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 Unicode MS"/>
              </a:rPr>
              <a:t>Oper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00600" y="3484440"/>
            <a:ext cx="2264040" cy="4334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 Unicode MS"/>
              </a:rPr>
              <a:t>IT Project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6920" y="3224160"/>
            <a:ext cx="60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322416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54280" y="322416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83080" y="322416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32440" y="322416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54280" y="3917880"/>
            <a:ext cx="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13320" y="2876400"/>
            <a:ext cx="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919000" y="21826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66"/>
                </a:solidFill>
                <a:latin typeface="Arial Unicode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136360" y="33116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66"/>
                </a:solidFill>
                <a:latin typeface="Arial Unicode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89320" y="47862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66"/>
                </a:solidFill>
                <a:latin typeface="Arial Unicode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32320" y="400536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 Unicode MS"/>
              </a:rPr>
              <a:t>Unidade de negó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247280" y="5567400"/>
            <a:ext cx="213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 Unicode MS"/>
              </a:rPr>
              <a:t>Controle de proje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0560" y="2008080"/>
            <a:ext cx="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68480" y="1600200"/>
            <a:ext cx="6604200" cy="6350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2"/>
              </a:gs>
              <a:gs pos="100000">
                <a:srgbClr val="ffff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75160" y="50760"/>
            <a:ext cx="5479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Estágios de um PM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rcRect l="23438" t="23300" r="63934" b="62727"/>
          <a:stretch/>
        </p:blipFill>
        <p:spPr>
          <a:xfrm>
            <a:off x="368280" y="1231920"/>
            <a:ext cx="1638360" cy="13176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032560" y="1609560"/>
            <a:ext cx="6165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isando projetos e/ou programas individu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0440" y="2717640"/>
            <a:ext cx="88642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gerentes de projetos podem ou não estar ligados ao P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7120" y="3403440"/>
            <a:ext cx="922104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membros do time tendem a estarem mais alinhados ainda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entes funcionais e não ao P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2600" y="4394160"/>
            <a:ext cx="7794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ioridade é a de controlar os projetos desgas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6280" y="5054760"/>
            <a:ext cx="830196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eça provendo serviços de gerência de projetos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agar incêndios” de proje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9640" y="5981760"/>
            <a:ext cx="8625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lmente começa com a alocação de 1 recurso ape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968480" y="1523880"/>
            <a:ext cx="6604200" cy="901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cfefe"/>
              </a:gs>
              <a:gs pos="100000">
                <a:srgbClr val="cc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75160" y="50760"/>
            <a:ext cx="5479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Estágios de um PM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6120" y="1457280"/>
            <a:ext cx="63046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isando processos e otimização de recur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m projetos dif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6560" y="3638520"/>
            <a:ext cx="79444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6699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foca somente no sucesso de um projeto específico, 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bém migra melhores práticas e processos para outros proj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23438" t="38355" r="63934" b="48567"/>
          <a:stretch/>
        </p:blipFill>
        <p:spPr>
          <a:xfrm>
            <a:off x="343080" y="1270080"/>
            <a:ext cx="1696680" cy="1278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90080" y="2651040"/>
            <a:ext cx="808128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6699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entes de projetos podem estar reportando diretamente ao P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3680" y="3121200"/>
            <a:ext cx="68331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6699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membros do time começam a se alinhar com o P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4920" y="4429080"/>
            <a:ext cx="283104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6699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ditoria de proj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2760" y="4962600"/>
            <a:ext cx="410220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6699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is staff é adicionado ao P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8880" y="5457960"/>
            <a:ext cx="585180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6699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a alocação de recursos para os proj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0320" y="5978520"/>
            <a:ext cx="747468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6699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todologia de gerência de projetos é trabalhada e divul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866960" y="1600200"/>
            <a:ext cx="7657920" cy="6984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50000">
                <a:srgbClr val="e5d8c0"/>
              </a:gs>
              <a:gs pos="100000">
                <a:srgbClr val="996600"/>
              </a:gs>
            </a:gsLst>
            <a:lin ang="81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75160" y="50760"/>
            <a:ext cx="5479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Estágios de um PM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96480" y="1635120"/>
            <a:ext cx="7593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MO estratégico visando a organização como um t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320" y="2651040"/>
            <a:ext cx="68637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entes de projetos já reportando diretamente ao P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2920" y="3121200"/>
            <a:ext cx="73742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MO com mais autonomia, visando priorização de projetos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ratégia d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5080" y="3882960"/>
            <a:ext cx="54219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ditoria de projetos, propostas e contr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6120" y="4352760"/>
            <a:ext cx="293472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ência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4400" y="5965920"/>
            <a:ext cx="570564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e efetivo do forecast de custos e r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rcRect l="23438" t="52154" r="63934" b="34590"/>
          <a:stretch/>
        </p:blipFill>
        <p:spPr>
          <a:xfrm>
            <a:off x="254160" y="1308240"/>
            <a:ext cx="1650960" cy="12589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83600" y="4848120"/>
            <a:ext cx="516888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gração com demais áreas de negó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7560" y="5407200"/>
            <a:ext cx="455472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MIS implementado e em ope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575160" y="50760"/>
            <a:ext cx="5479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Estágios de um PM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86880" y="1031760"/>
            <a:ext cx="265752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bin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rcRect l="23958" t="42475" r="25261" b="15232"/>
          <a:stretch/>
        </p:blipFill>
        <p:spPr>
          <a:xfrm>
            <a:off x="628560" y="1701720"/>
            <a:ext cx="8083800" cy="4891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416400" y="264168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59320" y="2629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2480" y="1917720"/>
            <a:ext cx="5664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9519" t="4447" r="9519" b="5933"/>
          <a:stretch/>
        </p:blipFill>
        <p:spPr>
          <a:xfrm>
            <a:off x="2805120" y="4233960"/>
            <a:ext cx="1298520" cy="2306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25760" y="4586400"/>
            <a:ext cx="479520" cy="1828800"/>
          </a:xfrm>
          <a:custGeom>
            <a:avLst/>
            <a:gdLst>
              <a:gd name="textAreaLeft" fmla="*/ 64080 w 479520"/>
              <a:gd name="textAreaRight" fmla="*/ 415440 w 479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530520" y="1511280"/>
            <a:ext cx="4546800" cy="2413080"/>
            <a:chOff x="3530520" y="1511280"/>
            <a:chExt cx="4546800" cy="2413080"/>
          </a:xfrm>
        </p:grpSpPr>
        <p:sp>
          <p:nvSpPr>
            <p:cNvPr id="115" name=""/>
            <p:cNvSpPr/>
            <p:nvPr/>
          </p:nvSpPr>
          <p:spPr>
            <a:xfrm>
              <a:off x="3530520" y="1511280"/>
              <a:ext cx="4546800" cy="2413080"/>
            </a:xfrm>
            <a:prstGeom prst="wedgeEllipseCallout">
              <a:avLst>
                <a:gd name="adj1" fmla="val -42912"/>
                <a:gd name="adj2" fmla="val 73550"/>
              </a:avLst>
            </a:prstGeom>
            <a:gradFill rotWithShape="0">
              <a:gsLst>
                <a:gs pos="0">
                  <a:srgbClr val="000007"/>
                </a:gs>
                <a:gs pos="50000">
                  <a:srgbClr val="0000ff"/>
                </a:gs>
                <a:gs pos="100000">
                  <a:srgbClr val="000007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pPr algn="ctr"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93600" y="2370240"/>
              <a:ext cx="412848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3400" spc="-1" strike="noStrike">
                  <a:solidFill>
                    <a:srgbClr val="ffffff"/>
                  </a:solidFill>
                  <a:latin typeface="Arial"/>
                </a:rPr>
                <a:t>Introdução ao PMO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741320" y="185760"/>
            <a:ext cx="718524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oject Management Office</a:t>
            </a: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 (PM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525760" y="4586400"/>
            <a:ext cx="479520" cy="1828800"/>
          </a:xfrm>
          <a:custGeom>
            <a:avLst/>
            <a:gdLst>
              <a:gd name="textAreaLeft" fmla="*/ 64080 w 479520"/>
              <a:gd name="textAreaRight" fmla="*/ 415440 w 479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25760" y="4586400"/>
            <a:ext cx="479520" cy="1828800"/>
          </a:xfrm>
          <a:custGeom>
            <a:avLst/>
            <a:gdLst>
              <a:gd name="textAreaLeft" fmla="*/ 64080 w 479520"/>
              <a:gd name="textAreaRight" fmla="*/ 415440 w 479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rcRect l="9519" t="4447" r="9519" b="5933"/>
          <a:stretch/>
        </p:blipFill>
        <p:spPr>
          <a:xfrm>
            <a:off x="2805120" y="4233960"/>
            <a:ext cx="1298520" cy="23065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2525760" y="4586400"/>
            <a:ext cx="479520" cy="1828800"/>
          </a:xfrm>
          <a:custGeom>
            <a:avLst/>
            <a:gdLst>
              <a:gd name="textAreaLeft" fmla="*/ 64080 w 479520"/>
              <a:gd name="textAreaRight" fmla="*/ 415440 w 479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096360" y="1511280"/>
            <a:ext cx="5093640" cy="3254040"/>
            <a:chOff x="3096360" y="1511280"/>
            <a:chExt cx="5093640" cy="3254040"/>
          </a:xfrm>
        </p:grpSpPr>
        <p:sp>
          <p:nvSpPr>
            <p:cNvPr id="358" name=""/>
            <p:cNvSpPr/>
            <p:nvPr/>
          </p:nvSpPr>
          <p:spPr>
            <a:xfrm>
              <a:off x="3436920" y="4160880"/>
              <a:ext cx="475308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400" spc="-1" strike="noStrike">
                  <a:solidFill>
                    <a:srgbClr val="ffffff"/>
                  </a:solidFill>
                  <a:latin typeface="Arial"/>
                </a:rPr>
                <a:t>Características do PMO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96360" y="1849320"/>
              <a:ext cx="391176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400" spc="-1" strike="noStrike">
                  <a:solidFill>
                    <a:srgbClr val="ffffff"/>
                  </a:solidFill>
                  <a:latin typeface="Arial"/>
                </a:rPr>
                <a:t>Introdução ao PMO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530520" y="1511280"/>
              <a:ext cx="4546800" cy="2413080"/>
            </a:xfrm>
            <a:prstGeom prst="wedgeEllipseCallout">
              <a:avLst>
                <a:gd name="adj1" fmla="val -42912"/>
                <a:gd name="adj2" fmla="val 73550"/>
              </a:avLst>
            </a:prstGeom>
            <a:gradFill rotWithShape="0">
              <a:gsLst>
                <a:gs pos="0">
                  <a:srgbClr val="000007"/>
                </a:gs>
                <a:gs pos="50000">
                  <a:srgbClr val="0000ff"/>
                </a:gs>
                <a:gs pos="100000">
                  <a:srgbClr val="000007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pPr algn="ctr"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46840" y="2217600"/>
              <a:ext cx="348228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3400" spc="-1" strike="noStrike">
                  <a:solidFill>
                    <a:srgbClr val="ffffff"/>
                  </a:solidFill>
                  <a:latin typeface="Arial"/>
                </a:rPr>
                <a:t>Implementando 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3400" spc="-1" strike="noStrike">
                  <a:solidFill>
                    <a:srgbClr val="ffffff"/>
                  </a:solidFill>
                  <a:latin typeface="Arial"/>
                </a:rPr>
                <a:t>um PMO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556160" y="179280"/>
            <a:ext cx="425772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Não se esqueça que 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5640" y="1666800"/>
            <a:ext cx="8635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SzPct val="120000"/>
              <a:buFont typeface="Wingdings" charset="2"/>
              <a:buChar char="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ocê está querendo criar um novo departamento ou fu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8520" y="2340000"/>
            <a:ext cx="5688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SzPct val="120000"/>
              <a:buFont typeface="Wingdings" charset="2"/>
              <a:buChar char="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PMO, a princípio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gera r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3320" y="2994120"/>
            <a:ext cx="9394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SzPct val="120000"/>
              <a:buFont typeface="Wingdings" charset="2"/>
              <a:buChar char="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parecer para alguns que você está criando mais burocra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62160" y="4429080"/>
            <a:ext cx="6636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SzPct val="120000"/>
              <a:buFont typeface="Wingdings" charset="2"/>
              <a:buChar char="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tempo de implementação pode ser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0120" y="3711600"/>
            <a:ext cx="5517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SzPct val="120000"/>
              <a:buFont typeface="Wingdings" charset="2"/>
              <a:buChar char="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 ser encarado como um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850120" y="210960"/>
            <a:ext cx="654084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Passos Iniciais para o Projeto PM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2400" y="1647720"/>
            <a:ext cx="8694000" cy="36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SzPct val="120000"/>
              <a:buFont typeface="Wingdings" charset="2"/>
              <a:buChar char="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e um Project Ch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SzPct val="120000"/>
              <a:buFont typeface="Wingdings" charset="2"/>
              <a:buChar char="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igne um gerente de pro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SzPct val="120000"/>
              <a:buFont typeface="Wingdings" charset="2"/>
              <a:buChar char="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gre políticas e processos organizacionais aplicá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SzPct val="120000"/>
              <a:buFont typeface="Wingdings" charset="2"/>
              <a:buChar char="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e os recursos necess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SzPct val="120000"/>
              <a:buFont typeface="Wingdings" charset="2"/>
              <a:buChar char="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que a idé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SzPct val="120000"/>
              <a:buFont typeface="Wingdings" charset="2"/>
              <a:buChar char="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volva uma classificação básica dos projetos cor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SzPct val="120000"/>
              <a:buFont typeface="Wingdings" charset="2"/>
              <a:buChar char="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duza um pil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968400" y="249120"/>
            <a:ext cx="858996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ntes de mais nada ... Identificar o patrocin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9720" y="1457280"/>
            <a:ext cx="936468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ensor entusiasta e ATIVO das práticas de Gestão de Pro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3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peitado e influente n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undo conhecedor das políticas organiza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om conhecedor do negócio d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7797960" y="3632040"/>
            <a:ext cx="1676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0200" y="203040"/>
            <a:ext cx="8420040" cy="609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Os 4 passos na implantação de um PMO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9280" y="1758600"/>
            <a:ext cx="842004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365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1. Estabelecer a estratégia de operaçã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2. Desenvolver as iniciativas de curto praz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3. Desenvolver as iniciativas de longo praz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4. Suportar e melhor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01800" y="317520"/>
            <a:ext cx="8407440" cy="4190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asso 1 -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elecer a estratégia de operação</a:t>
            </a:r>
            <a:r>
              <a:rPr b="1" i="1" lang="pt-BR" sz="2800" spc="-1" strike="noStrike">
                <a:solidFill>
                  <a:srgbClr val="000066"/>
                </a:solidFill>
                <a:latin typeface="Arial"/>
                <a:ea typeface="Courier New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4160" y="1441080"/>
            <a:ext cx="92455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290880" indent="-290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Estabeleça os objetivos do P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880" indent="-290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Identifique qual a situação atual d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880" indent="-290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Estabeleça e defina as responsabilidades do P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880" indent="-290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Defina a estrutura organizacional, os perfis dos profission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e contrate equ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880" indent="-290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Defina os stakeholders na área e n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880" indent="-290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Defina a estratégia de comunicação entre os stakehol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96560" y="1403280"/>
            <a:ext cx="96584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>
              <a:lnSpc>
                <a:spcPct val="90000"/>
              </a:lnSpc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Courier New"/>
              </a:rPr>
              <a:t>Divulgue o PMO para os stakehol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que todas as iniciativas de novos e atuais desenvolvim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que as diferentes classes de pro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que métricas que mostrem a importância dos pro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ifique todos os projetos por classe e importâ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que e recomende quais classificações de projetos devem ser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adas pelo P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btenha a aprovação necessá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e relatórios de status dos projetos sob responsabilidade 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senvolva uma metodolog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senvolva um pilo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69400" y="239760"/>
            <a:ext cx="881460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asso 2 -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envolver as iniciativas de curto pr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06080" y="1663200"/>
            <a:ext cx="8991720" cy="21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33080" indent="-43308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Courier New"/>
              </a:rPr>
              <a:t>Desenvolva sessões de treinamentos para as equi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3080" indent="-43308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ficialize o suporte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aching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entoring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os pro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3080" indent="-43308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Courier New"/>
              </a:rPr>
              <a:t>Escolha a ferramenta de gestão dos pro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3080" indent="-43308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Courier New"/>
              </a:rPr>
              <a:t>Selecione as métricas necessárias para avaliação dos resultados dos pro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3080" indent="-43308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Courier New"/>
              </a:rPr>
              <a:t>Desenvolver modelo de gestão para o portfól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8560" y="330120"/>
            <a:ext cx="87519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asso 3 -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envolver as iniciativas de longo pr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507600" y="1631880"/>
            <a:ext cx="842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Desenvolva os projetos seguindo a 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valie a metodologia e realize melhorias continu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Acolha os feedbacks d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115880" y="247680"/>
            <a:ext cx="531108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asso 4 – Suportar e melho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065840" y="179280"/>
            <a:ext cx="518904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Fatores críticos de sucess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5040" y="1362240"/>
            <a:ext cx="3330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SzPct val="120000"/>
              <a:buFont typeface="Wingdings" charset="2"/>
              <a:buChar char="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trocínio ex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4760" y="2035080"/>
            <a:ext cx="6208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SzPct val="120000"/>
              <a:buFont typeface="Wingdings" charset="2"/>
              <a:buChar char="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inhamento com os objetivos do negó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3760" y="2689200"/>
            <a:ext cx="7120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SzPct val="120000"/>
              <a:buFont typeface="Wingdings" charset="2"/>
              <a:buChar char="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seminação de resultados e lições apren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9520" y="3381480"/>
            <a:ext cx="6375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SzPct val="120000"/>
              <a:buFont typeface="Wingdings" charset="2"/>
              <a:buChar char="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péis e responsabilidades bem defin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7720" y="4073400"/>
            <a:ext cx="2622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SzPct val="120000"/>
              <a:buFont typeface="Wingdings" charset="2"/>
              <a:buChar char="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tas factí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9680" y="4759200"/>
            <a:ext cx="7569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SzPct val="120000"/>
              <a:buFont typeface="Wingdings" charset="2"/>
              <a:buChar char="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ra-estrutura, recursos e equipamentos ded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57640" y="254160"/>
            <a:ext cx="6292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O que será um PM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06360" y="1206360"/>
            <a:ext cx="7683480" cy="4965840"/>
          </a:xfrm>
          <a:prstGeom prst="cloudCallout">
            <a:avLst>
              <a:gd name="adj1" fmla="val -51245"/>
              <a:gd name="adj2" fmla="val 54328"/>
            </a:avLst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90720" y="2138400"/>
            <a:ext cx="1743120" cy="1149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49920" y="4076640"/>
            <a:ext cx="1584360" cy="1035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949480" y="3844800"/>
            <a:ext cx="966960" cy="1420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rcRect l="0" t="14589" r="47430" b="58667"/>
          <a:stretch/>
        </p:blipFill>
        <p:spPr>
          <a:xfrm>
            <a:off x="5049720" y="1612800"/>
            <a:ext cx="1584360" cy="1486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rcRect l="0" t="0" r="78449" b="0"/>
          <a:stretch/>
        </p:blipFill>
        <p:spPr>
          <a:xfrm>
            <a:off x="6730920" y="2617920"/>
            <a:ext cx="158760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47680" y="1346040"/>
            <a:ext cx="9144000" cy="31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Sem patrocínio forte, o PMO não sobreviverá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Seja paciente. A implantação de uma cultura de gestão por projetos leva t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Desenvolva ações simples, principalmente no iní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Foque no retorno para a organização e divulgue os resul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Lembre-se: Pessoas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Processos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Ferram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Administre bem as expectativas dos stakehol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Saiba dizer “Não !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Certifique os profissionais envolvidos com projetos em sua organiz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Lembre-se: Gerenciamento de Projetos não é uma atividade isolada, mas sim uma atividade de equi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95560" y="196920"/>
            <a:ext cx="82386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Os bons conselhos que devem ser segui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501480" y="1561680"/>
            <a:ext cx="8420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O entusiasmo da gerência pode diminu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O valor do PMO pode ser questio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Equívocos na escolha dos membros-chave do P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A cultura da empresa provavelmente resistirá à mud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023560" y="237960"/>
            <a:ext cx="717012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900" spc="-1" strike="noStrike">
                <a:solidFill>
                  <a:srgbClr val="000000"/>
                </a:solidFill>
                <a:latin typeface="Arial"/>
              </a:rPr>
              <a:t>Possíveis problemas na implementaçã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525760" y="4586400"/>
            <a:ext cx="479520" cy="1828800"/>
          </a:xfrm>
          <a:custGeom>
            <a:avLst/>
            <a:gdLst>
              <a:gd name="textAreaLeft" fmla="*/ 64080 w 479520"/>
              <a:gd name="textAreaRight" fmla="*/ 415440 w 479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525760" y="4586400"/>
            <a:ext cx="479520" cy="1828800"/>
          </a:xfrm>
          <a:custGeom>
            <a:avLst/>
            <a:gdLst>
              <a:gd name="textAreaLeft" fmla="*/ 64080 w 479520"/>
              <a:gd name="textAreaRight" fmla="*/ 415440 w 479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rcRect l="9519" t="4447" r="9519" b="5933"/>
          <a:stretch/>
        </p:blipFill>
        <p:spPr>
          <a:xfrm>
            <a:off x="2805120" y="4233960"/>
            <a:ext cx="1298520" cy="2306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525760" y="4586400"/>
            <a:ext cx="479520" cy="1828800"/>
          </a:xfrm>
          <a:custGeom>
            <a:avLst/>
            <a:gdLst>
              <a:gd name="textAreaLeft" fmla="*/ 64080 w 479520"/>
              <a:gd name="textAreaRight" fmla="*/ 415440 w 479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096360" y="1511280"/>
            <a:ext cx="5093640" cy="3254040"/>
            <a:chOff x="3096360" y="1511280"/>
            <a:chExt cx="5093640" cy="3254040"/>
          </a:xfrm>
        </p:grpSpPr>
        <p:sp>
          <p:nvSpPr>
            <p:cNvPr id="399" name=""/>
            <p:cNvSpPr/>
            <p:nvPr/>
          </p:nvSpPr>
          <p:spPr>
            <a:xfrm>
              <a:off x="3436920" y="4160880"/>
              <a:ext cx="475308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400" spc="-1" strike="noStrike">
                  <a:solidFill>
                    <a:srgbClr val="ffffff"/>
                  </a:solidFill>
                  <a:latin typeface="Arial"/>
                </a:rPr>
                <a:t>Características do PMO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96360" y="1849320"/>
              <a:ext cx="391176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400" spc="-1" strike="noStrike">
                  <a:solidFill>
                    <a:srgbClr val="ffffff"/>
                  </a:solidFill>
                  <a:latin typeface="Arial"/>
                </a:rPr>
                <a:t>Introdução ao PMO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30520" y="1511280"/>
              <a:ext cx="4546800" cy="2413080"/>
            </a:xfrm>
            <a:prstGeom prst="wedgeEllipseCallout">
              <a:avLst>
                <a:gd name="adj1" fmla="val -42912"/>
                <a:gd name="adj2" fmla="val 73550"/>
              </a:avLst>
            </a:prstGeom>
            <a:gradFill rotWithShape="0">
              <a:gsLst>
                <a:gs pos="0">
                  <a:srgbClr val="000007"/>
                </a:gs>
                <a:gs pos="50000">
                  <a:srgbClr val="0000ff"/>
                </a:gs>
                <a:gs pos="100000">
                  <a:srgbClr val="000007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pPr algn="ctr"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60760" y="2319480"/>
              <a:ext cx="28573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3400" spc="-1" strike="noStrike">
                  <a:solidFill>
                    <a:srgbClr val="ffffff"/>
                  </a:solidFill>
                  <a:latin typeface="Arial"/>
                </a:rPr>
                <a:t>Case da Vivo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6370200" y="206280"/>
            <a:ext cx="259056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se da V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04920" y="1371600"/>
            <a:ext cx="2844720" cy="1409760"/>
            <a:chOff x="304920" y="1371600"/>
            <a:chExt cx="2844720" cy="1409760"/>
          </a:xfrm>
        </p:grpSpPr>
        <p:grpSp>
          <p:nvGrpSpPr>
            <p:cNvPr id="405" name=""/>
            <p:cNvGrpSpPr/>
            <p:nvPr/>
          </p:nvGrpSpPr>
          <p:grpSpPr>
            <a:xfrm>
              <a:off x="304920" y="1397160"/>
              <a:ext cx="2844720" cy="1320840"/>
              <a:chOff x="304920" y="1397160"/>
              <a:chExt cx="2844720" cy="1320840"/>
            </a:xfrm>
          </p:grpSpPr>
          <p:sp>
            <p:nvSpPr>
              <p:cNvPr id="406" name=""/>
              <p:cNvSpPr/>
              <p:nvPr/>
            </p:nvSpPr>
            <p:spPr>
              <a:xfrm>
                <a:off x="304920" y="1625760"/>
                <a:ext cx="284472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99"/>
                    </a:solidFill>
                    <a:latin typeface="Verdana"/>
                  </a:rPr>
                  <a:t>PMO criado para suportar o Programa de Consolidação de Sistemas na </a:t>
                </a:r>
                <a:r>
                  <a:rPr b="0" i="1" lang="pt-BR" sz="1200" spc="-1" strike="noStrike">
                    <a:solidFill>
                      <a:srgbClr val="000099"/>
                    </a:solidFill>
                    <a:latin typeface="Verdana"/>
                  </a:rPr>
                  <a:t>Telefônica Celu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5960" y="2274840"/>
                <a:ext cx="1066680" cy="4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>
                <a:off x="419400" y="1397160"/>
                <a:ext cx="25146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99"/>
                    </a:solidFill>
                    <a:latin typeface="Verdana"/>
                  </a:rPr>
                  <a:t>Março de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470160" y="1371600"/>
              <a:ext cx="2514600" cy="140976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451240" y="2870280"/>
            <a:ext cx="3492360" cy="2463840"/>
            <a:chOff x="2451240" y="2870280"/>
            <a:chExt cx="3492360" cy="2463840"/>
          </a:xfrm>
        </p:grpSpPr>
        <p:sp>
          <p:nvSpPr>
            <p:cNvPr id="411" name=""/>
            <p:cNvSpPr/>
            <p:nvPr/>
          </p:nvSpPr>
          <p:spPr>
            <a:xfrm>
              <a:off x="2463840" y="2870280"/>
              <a:ext cx="3453840" cy="246384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2451240" y="2908440"/>
              <a:ext cx="3492360" cy="2345760"/>
              <a:chOff x="2451240" y="2908440"/>
              <a:chExt cx="3492360" cy="234576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3708360" y="4698720"/>
                <a:ext cx="853560" cy="555480"/>
                <a:chOff x="3708360" y="4698720"/>
                <a:chExt cx="853560" cy="555480"/>
              </a:xfrm>
            </p:grpSpPr>
            <p:pic>
              <p:nvPicPr>
                <p:cNvPr id="41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71880" y="4713480"/>
                  <a:ext cx="590040" cy="498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708360" y="4698720"/>
                  <a:ext cx="245880" cy="555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1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2040" y="3429000"/>
                <a:ext cx="939600" cy="64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"/>
              <p:cNvSpPr/>
              <p:nvPr/>
            </p:nvSpPr>
            <p:spPr>
              <a:xfrm>
                <a:off x="2882880" y="2908440"/>
                <a:ext cx="2514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99"/>
                    </a:solidFill>
                    <a:latin typeface="Verdana"/>
                  </a:rPr>
                  <a:t>Novembro de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844720" y="3162240"/>
                <a:ext cx="251424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3300"/>
                    </a:solidFill>
                    <a:latin typeface="Verdana"/>
                  </a:rPr>
                  <a:t>Consolidação</a:t>
                </a:r>
                <a:r>
                  <a:rPr b="1" lang="pt-BR" sz="1200" spc="-1" strike="noStrike">
                    <a:solidFill>
                      <a:srgbClr val="ff9933"/>
                    </a:solidFill>
                    <a:latin typeface="Verdana"/>
                  </a:rPr>
                  <a:t> </a:t>
                </a:r>
                <a:r>
                  <a:rPr b="1" lang="pt-BR" sz="1200" spc="-1" strike="noStrike">
                    <a:solidFill>
                      <a:srgbClr val="ff3300"/>
                    </a:solidFill>
                    <a:latin typeface="Verdana"/>
                  </a:rPr>
                  <a:t>da OPT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451240" y="4038480"/>
                <a:ext cx="3492360" cy="69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99"/>
                    </a:solidFill>
                    <a:latin typeface="Verdana"/>
                  </a:rPr>
                  <a:t>Desenvolvimento de Metodologia única de Gerenciamento de Projetos consolidando as melhores práticas entre as Operador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6121440" y="3975120"/>
            <a:ext cx="3365640" cy="2628720"/>
            <a:chOff x="6121440" y="3975120"/>
            <a:chExt cx="3365640" cy="2628720"/>
          </a:xfrm>
        </p:grpSpPr>
        <p:sp>
          <p:nvSpPr>
            <p:cNvPr id="421" name=""/>
            <p:cNvSpPr/>
            <p:nvPr/>
          </p:nvSpPr>
          <p:spPr>
            <a:xfrm>
              <a:off x="6134400" y="3975120"/>
              <a:ext cx="3251160" cy="262872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121440" y="4012920"/>
              <a:ext cx="3365640" cy="2511720"/>
              <a:chOff x="6121440" y="4012920"/>
              <a:chExt cx="3365640" cy="2511720"/>
            </a:xfrm>
          </p:grpSpPr>
          <p:pic>
            <p:nvPicPr>
              <p:cNvPr id="42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7600" y="4795560"/>
                <a:ext cx="1006560" cy="5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6464520" y="4012920"/>
                <a:ext cx="25146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99"/>
                    </a:solidFill>
                    <a:latin typeface="Verdana"/>
                  </a:rPr>
                  <a:t>Dezembro de 200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185160" y="4292280"/>
                <a:ext cx="312408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3300"/>
                    </a:solidFill>
                    <a:latin typeface="Verdana"/>
                  </a:rPr>
                  <a:t>Unificação do PMO para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3300"/>
                    </a:solidFill>
                    <a:latin typeface="Verdana"/>
                  </a:rPr>
                  <a:t>Vice-Presidência de Tecnolog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6" name=""/>
              <p:cNvGrpSpPr/>
              <p:nvPr/>
            </p:nvGrpSpPr>
            <p:grpSpPr>
              <a:xfrm>
                <a:off x="7251840" y="5956200"/>
                <a:ext cx="803160" cy="568440"/>
                <a:chOff x="7251840" y="5956200"/>
                <a:chExt cx="803160" cy="568440"/>
              </a:xfrm>
            </p:grpSpPr>
            <p:pic>
              <p:nvPicPr>
                <p:cNvPr id="42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499880" y="5971320"/>
                  <a:ext cx="555120" cy="510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251840" y="5956200"/>
                  <a:ext cx="231120" cy="568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29" name=""/>
              <p:cNvSpPr/>
              <p:nvPr/>
            </p:nvSpPr>
            <p:spPr>
              <a:xfrm>
                <a:off x="6121440" y="5332320"/>
                <a:ext cx="336564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99"/>
                    </a:solidFill>
                    <a:latin typeface="Verdana"/>
                  </a:rPr>
                  <a:t>O PMO passa a ser uma </a:t>
                </a:r>
                <a:r>
                  <a:rPr b="1" lang="pt-BR" sz="1200" spc="-1" strike="noStrike">
                    <a:solidFill>
                      <a:srgbClr val="000099"/>
                    </a:solidFill>
                    <a:latin typeface="Verdana"/>
                  </a:rPr>
                  <a:t>divisão</a:t>
                </a:r>
                <a:r>
                  <a:rPr b="0" lang="pt-BR" sz="1200" spc="-1" strike="noStrike">
                    <a:solidFill>
                      <a:srgbClr val="000099"/>
                    </a:solidFill>
                    <a:latin typeface="Verdana"/>
                  </a:rPr>
                  <a:t> da VP Tecnologia controlando projetos de TI e Engenharia em uma metodologia únic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525760" y="4586400"/>
            <a:ext cx="479520" cy="1828800"/>
          </a:xfrm>
          <a:custGeom>
            <a:avLst/>
            <a:gdLst>
              <a:gd name="textAreaLeft" fmla="*/ 64080 w 479520"/>
              <a:gd name="textAreaRight" fmla="*/ 415440 w 479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36920" y="4160880"/>
            <a:ext cx="475308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400" spc="-1" strike="noStrike">
                <a:solidFill>
                  <a:srgbClr val="ffffff"/>
                </a:solidFill>
                <a:latin typeface="Arial"/>
              </a:rPr>
              <a:t>Características do PM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96360" y="1849320"/>
            <a:ext cx="391176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400" spc="-1" strike="noStrike">
                <a:solidFill>
                  <a:srgbClr val="ffffff"/>
                </a:solidFill>
                <a:latin typeface="Arial"/>
              </a:rPr>
              <a:t>Introdução ao PM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25760" y="4586400"/>
            <a:ext cx="479520" cy="1828800"/>
          </a:xfrm>
          <a:custGeom>
            <a:avLst/>
            <a:gdLst>
              <a:gd name="textAreaLeft" fmla="*/ 64080 w 479520"/>
              <a:gd name="textAreaRight" fmla="*/ 415440 w 479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rcRect l="9519" t="4447" r="9519" b="5933"/>
          <a:stretch/>
        </p:blipFill>
        <p:spPr>
          <a:xfrm>
            <a:off x="2805120" y="4233960"/>
            <a:ext cx="1298520" cy="23065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3530520" y="1511280"/>
            <a:ext cx="4546800" cy="2413080"/>
          </a:xfrm>
          <a:prstGeom prst="wedgeEllipseCallout">
            <a:avLst>
              <a:gd name="adj1" fmla="val -42912"/>
              <a:gd name="adj2" fmla="val 73550"/>
            </a:avLst>
          </a:prstGeom>
          <a:gradFill rotWithShape="0">
            <a:gsLst>
              <a:gs pos="0">
                <a:srgbClr val="000007"/>
              </a:gs>
              <a:gs pos="50000">
                <a:srgbClr val="0000ff"/>
              </a:gs>
              <a:gs pos="100000">
                <a:srgbClr val="000007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66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25760" y="4586400"/>
            <a:ext cx="479520" cy="1828800"/>
          </a:xfrm>
          <a:custGeom>
            <a:avLst/>
            <a:gdLst>
              <a:gd name="textAreaLeft" fmla="*/ 64080 w 479520"/>
              <a:gd name="textAreaRight" fmla="*/ 415440 w 479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675600" y="2217600"/>
            <a:ext cx="443772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ffffff"/>
                </a:solidFill>
                <a:latin typeface="Arial"/>
              </a:rPr>
              <a:t>Métricas de Sucess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ffffff"/>
                </a:solidFill>
                <a:latin typeface="Arial"/>
              </a:rPr>
              <a:t>de um PM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038120" y="244440"/>
            <a:ext cx="48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onceito de Maturid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7800" y="1828800"/>
            <a:ext cx="8647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o desenvolvimento integrado de sistemas e processos que são por natureza repetitivos e garantem uma alta probabilidade de que cada um deles seja um sucesso. Entretanto, processos e sistemas repetitivos não são, por si, garantia de sucess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arold Kerzn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61800" y="1460520"/>
            <a:ext cx="9129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organizações  diferem  drasticamente  em  seus  níveis  d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uridade, mesmo as pertencentes a um mesmo ra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uridade  em  gerenciamento  de  projetos está positivamen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ociada à melhor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smo  empresas  com  níveis  altos  de  maturidade    pode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oluir.  É  fundamental  uma  análise  para  saber  onde aplic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us investimentos em gerência de proje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presas  mais  maduras  gastam  menos  em   gerência  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07680" y="108000"/>
            <a:ext cx="559152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aracterísticas e Benefí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9960" y="1460520"/>
            <a:ext cx="8647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Nível 1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Há processos de GP, mas sem práticas ou padrões estabelecidos. Documentação incipiente. Definição e coleta informal de métr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Nível 2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Há documentação sem padronização para os processos de GP básicos. Há algum apoio para a implantação de GP mais baixo envolvimento/ institucionalização. Métricas básicas de Custo, Tempo e performance técnica com correlação inf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308120" y="184320"/>
            <a:ext cx="49590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ompilação dos 5 Ní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47680" y="1523880"/>
            <a:ext cx="9244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Nível 3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raticamente todos os projetos compartilham os mesmos processos básicos e tem documentação mínima formalizada. Administração envolvida na definição e na aprovação de questões-ch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Nível 4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GP referencia-se aos resultados do passo e aos objetivos perseguidos. Métricas (baseline e earned value), sustentam a avaliação do impacto de mudanças e a tomada de decisão. Papel da Administração seguido disciplinadamente e compatível com requisitos/ tamanho/complexidade de pro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308120" y="184320"/>
            <a:ext cx="49590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ompilação dos 5 Ní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50720" y="2019240"/>
            <a:ext cx="90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Nível 5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rocessos alinhados, examinando regularmente as lições aprendidas e nelas apoiando-se para sua melhoria contínua. Administração disciplinadamente focada também na melhoria contínua. Métricas servem para avaliar performance não só dos projetos individualmente mas também para tomada de decisões estratég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08120" y="184320"/>
            <a:ext cx="49590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ompilação dos 5 Ní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870440" y="304920"/>
            <a:ext cx="4425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O que o PMO </a:t>
            </a:r>
            <a:r>
              <a:rPr b="1" i="1" lang="pt-BR" sz="3200" spc="-1" strike="noStrike" u="sng">
                <a:solidFill>
                  <a:srgbClr val="ff3300"/>
                </a:solidFill>
                <a:uFillTx/>
                <a:latin typeface="Arial"/>
              </a:rPr>
              <a:t>não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3640" y="1547640"/>
            <a:ext cx="890748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291960" indent="-291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 chato  que fica “bisbilhotando” o gerente de  projetos fazendo micro-gerenci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pe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entro burocr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ev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função pol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cado em um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mente mais uma nova “ond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577800" y="1649520"/>
            <a:ext cx="8647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ability Maturity Model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volvido em 1986 pelo Software Engineering Institute (SEI) da Carnegie Mellon University e patrocinado pelo DoD (US Department of Defens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sta aceitação mundial, até mesmo fora da indústria de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ublicado em 1992 e baseado em 5 níveis: Inicial, Reproduzível, Definido, Gerenciado e Otim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78880" y="204840"/>
            <a:ext cx="125712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M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450720" y="1701720"/>
            <a:ext cx="8647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ganization Project Management Maturity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volvido pelo pelo PMI e lançado em janeiro de 200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a com participação de voluntários em todo o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ado 100% no PMB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álise de mais de 30 modelos, através da técnica Delph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22200" y="255600"/>
            <a:ext cx="243216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OPM3 (PM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65240" y="1219320"/>
            <a:ext cx="9245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 fornecer um arcabouço de referência consistente, desafiadora mais factível, para o desenvolvimento contínuo e disciplinado das práticas bem-sucedidas do gerenciamento de projetos de forma aderente à estratégia organiz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 ser escalá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 permitir medição objetiva de resultados – incentiva o envolvimento da Alta Administração e a interação e aprimoramento dos 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 privilegiar uma visão ampla e integrada da evolução da maturidade, permitindo migração entre a expertise individual e a competência em gestão estratégia do portfól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174040" y="246240"/>
            <a:ext cx="692316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aracterísticas de um bom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525760" y="4586400"/>
            <a:ext cx="479520" cy="1828800"/>
          </a:xfrm>
          <a:custGeom>
            <a:avLst/>
            <a:gdLst>
              <a:gd name="textAreaLeft" fmla="*/ 64080 w 479520"/>
              <a:gd name="textAreaRight" fmla="*/ 415440 w 479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36920" y="4160880"/>
            <a:ext cx="475308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400" spc="-1" strike="noStrike">
                <a:solidFill>
                  <a:srgbClr val="ffffff"/>
                </a:solidFill>
                <a:latin typeface="Arial"/>
              </a:rPr>
              <a:t>Características do PM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96360" y="1849320"/>
            <a:ext cx="391176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400" spc="-1" strike="noStrike">
                <a:solidFill>
                  <a:srgbClr val="ffffff"/>
                </a:solidFill>
                <a:latin typeface="Arial"/>
              </a:rPr>
              <a:t>Introdução ao PM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25760" y="4586400"/>
            <a:ext cx="479520" cy="1828800"/>
          </a:xfrm>
          <a:custGeom>
            <a:avLst/>
            <a:gdLst>
              <a:gd name="textAreaLeft" fmla="*/ 64080 w 479520"/>
              <a:gd name="textAreaRight" fmla="*/ 415440 w 479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rcRect l="9519" t="4447" r="9519" b="5933"/>
          <a:stretch/>
        </p:blipFill>
        <p:spPr>
          <a:xfrm>
            <a:off x="2805120" y="4233960"/>
            <a:ext cx="1298520" cy="230652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530520" y="1511280"/>
            <a:ext cx="4546800" cy="2413080"/>
          </a:xfrm>
          <a:prstGeom prst="wedgeEllipseCallout">
            <a:avLst>
              <a:gd name="adj1" fmla="val -42912"/>
              <a:gd name="adj2" fmla="val 73550"/>
            </a:avLst>
          </a:prstGeom>
          <a:gradFill rotWithShape="0">
            <a:gsLst>
              <a:gs pos="0">
                <a:srgbClr val="000007"/>
              </a:gs>
              <a:gs pos="50000">
                <a:srgbClr val="0000ff"/>
              </a:gs>
              <a:gs pos="100000">
                <a:srgbClr val="000007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66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25760" y="4586400"/>
            <a:ext cx="479520" cy="1828800"/>
          </a:xfrm>
          <a:custGeom>
            <a:avLst/>
            <a:gdLst>
              <a:gd name="textAreaLeft" fmla="*/ 64080 w 479520"/>
              <a:gd name="textAreaRight" fmla="*/ 415440 w 479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06880" y="2230560"/>
            <a:ext cx="345456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ffffff"/>
                </a:solidFill>
                <a:latin typeface="Arial"/>
              </a:rPr>
              <a:t>Indicado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ffffff"/>
                </a:solidFill>
                <a:latin typeface="Arial"/>
              </a:rPr>
              <a:t>(Benchmarking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459600" y="237960"/>
            <a:ext cx="57315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900" spc="-1" strike="noStrike">
                <a:solidFill>
                  <a:srgbClr val="000000"/>
                </a:solidFill>
                <a:latin typeface="Arial"/>
              </a:rPr>
              <a:t>Indicadores de PMO´s no Brasi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rcRect l="12241" t="41759" r="11850" b="15949"/>
          <a:stretch/>
        </p:blipFill>
        <p:spPr>
          <a:xfrm>
            <a:off x="677880" y="1700280"/>
            <a:ext cx="85708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rcRect l="14323" t="17026" r="15235" b="15771"/>
          <a:stretch/>
        </p:blipFill>
        <p:spPr>
          <a:xfrm>
            <a:off x="1054080" y="1181160"/>
            <a:ext cx="7658280" cy="53085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459600" y="237960"/>
            <a:ext cx="57315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900" spc="-1" strike="noStrike">
                <a:solidFill>
                  <a:srgbClr val="000000"/>
                </a:solidFill>
                <a:latin typeface="Arial"/>
              </a:rPr>
              <a:t>Indicadores de PMO´s no Brasi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rcRect l="73181" t="10751" r="10809" b="82263"/>
          <a:stretch/>
        </p:blipFill>
        <p:spPr>
          <a:xfrm>
            <a:off x="8880480" y="6269040"/>
            <a:ext cx="93672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459600" y="237960"/>
            <a:ext cx="57315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900" spc="-1" strike="noStrike">
                <a:solidFill>
                  <a:srgbClr val="000000"/>
                </a:solidFill>
                <a:latin typeface="Arial"/>
              </a:rPr>
              <a:t>Indicadores de PMO´s no Brasi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rcRect l="13020" t="29037" r="16276" b="61828"/>
          <a:stretch/>
        </p:blipFill>
        <p:spPr>
          <a:xfrm>
            <a:off x="1422360" y="1143000"/>
            <a:ext cx="6896160" cy="6476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">
            <a:lum bright="12000"/>
          </a:blip>
          <a:srcRect l="28255" t="51255" r="36070" b="10217"/>
          <a:stretch/>
        </p:blipFill>
        <p:spPr>
          <a:xfrm>
            <a:off x="2146320" y="1947960"/>
            <a:ext cx="5715000" cy="44830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rcRect l="73181" t="10751" r="10809" b="82263"/>
          <a:stretch/>
        </p:blipFill>
        <p:spPr>
          <a:xfrm>
            <a:off x="8880480" y="6269040"/>
            <a:ext cx="93672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459600" y="237960"/>
            <a:ext cx="57315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900" spc="-1" strike="noStrike">
                <a:solidFill>
                  <a:srgbClr val="000000"/>
                </a:solidFill>
                <a:latin typeface="Arial"/>
              </a:rPr>
              <a:t>Indicadores de PMO´s no Brasi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rcRect l="13020" t="29037" r="16276" b="61828"/>
          <a:stretch/>
        </p:blipFill>
        <p:spPr>
          <a:xfrm>
            <a:off x="1422360" y="1143000"/>
            <a:ext cx="6896160" cy="64764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2">
            <a:lum bright="18000"/>
          </a:blip>
          <a:srcRect l="18749" t="43014" r="25003" b="22579"/>
          <a:stretch/>
        </p:blipFill>
        <p:spPr>
          <a:xfrm>
            <a:off x="682560" y="2146320"/>
            <a:ext cx="8639280" cy="38401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rcRect l="73181" t="10751" r="10809" b="82263"/>
          <a:stretch/>
        </p:blipFill>
        <p:spPr>
          <a:xfrm>
            <a:off x="8880480" y="6269040"/>
            <a:ext cx="93672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459600" y="237960"/>
            <a:ext cx="57315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900" spc="-1" strike="noStrike">
                <a:solidFill>
                  <a:srgbClr val="000000"/>
                </a:solidFill>
                <a:latin typeface="Arial"/>
              </a:rPr>
              <a:t>Indicadores de PMO´s no Brasi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rcRect l="13899" t="21529" r="14803" b="69794"/>
          <a:stretch/>
        </p:blipFill>
        <p:spPr>
          <a:xfrm>
            <a:off x="1689120" y="1143000"/>
            <a:ext cx="5994360" cy="6350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>
            <a:lum bright="24000"/>
          </a:blip>
          <a:srcRect l="26044" t="46596" r="25520" b="20613"/>
          <a:stretch/>
        </p:blipFill>
        <p:spPr>
          <a:xfrm>
            <a:off x="317520" y="2057400"/>
            <a:ext cx="8132760" cy="40006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rcRect l="73181" t="10751" r="10809" b="82263"/>
          <a:stretch/>
        </p:blipFill>
        <p:spPr>
          <a:xfrm>
            <a:off x="8880480" y="6269040"/>
            <a:ext cx="93672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459600" y="237960"/>
            <a:ext cx="57315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900" spc="-1" strike="noStrike">
                <a:solidFill>
                  <a:srgbClr val="000000"/>
                </a:solidFill>
                <a:latin typeface="Arial"/>
              </a:rPr>
              <a:t>Indicadores de PMO´s no Brasi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rcRect l="13899" t="21529" r="14803" b="69794"/>
          <a:stretch/>
        </p:blipFill>
        <p:spPr>
          <a:xfrm>
            <a:off x="1689120" y="1143000"/>
            <a:ext cx="5994360" cy="6350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>
            <a:lum bright="24000"/>
          </a:blip>
          <a:srcRect l="19141" t="46057" r="24220" b="19536"/>
          <a:stretch/>
        </p:blipFill>
        <p:spPr>
          <a:xfrm>
            <a:off x="262080" y="2108160"/>
            <a:ext cx="9034200" cy="398772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rcRect l="73181" t="10751" r="10809" b="82263"/>
          <a:stretch/>
        </p:blipFill>
        <p:spPr>
          <a:xfrm>
            <a:off x="8880480" y="6269040"/>
            <a:ext cx="93672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50960" y="2540160"/>
            <a:ext cx="6134040" cy="341604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4720" y="228600"/>
            <a:ext cx="5911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Definição de P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09680"/>
            <a:ext cx="84200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Provedor completo de serviços de gerenciamento de projetos servindo a organiz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48600" y="2627280"/>
            <a:ext cx="558828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O PMO é o ponto focal 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rticulação dos esforços de G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qualidade, previsibil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e alinhamento estratég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dos projetos da organização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459600" y="237960"/>
            <a:ext cx="57315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900" spc="-1" strike="noStrike">
                <a:solidFill>
                  <a:srgbClr val="000000"/>
                </a:solidFill>
                <a:latin typeface="Arial"/>
              </a:rPr>
              <a:t>Indicadores de PMO´s no Brasi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rcRect l="14194" t="32258" r="14973" b="58785"/>
          <a:stretch/>
        </p:blipFill>
        <p:spPr>
          <a:xfrm>
            <a:off x="1384200" y="1155600"/>
            <a:ext cx="6908760" cy="6350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>
            <a:lum bright="24000"/>
          </a:blip>
          <a:srcRect l="21093" t="51077" r="29300" b="15949"/>
          <a:stretch/>
        </p:blipFill>
        <p:spPr>
          <a:xfrm>
            <a:off x="403200" y="1905120"/>
            <a:ext cx="8783640" cy="42415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rcRect l="73181" t="10751" r="10809" b="82263"/>
          <a:stretch/>
        </p:blipFill>
        <p:spPr>
          <a:xfrm>
            <a:off x="8880480" y="6269040"/>
            <a:ext cx="93672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3459600" y="237960"/>
            <a:ext cx="57315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900" spc="-1" strike="noStrike">
                <a:solidFill>
                  <a:srgbClr val="000000"/>
                </a:solidFill>
                <a:latin typeface="Arial"/>
              </a:rPr>
              <a:t>Indicadores de PMO´s no Brasi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rcRect l="14194" t="32258" r="14973" b="58785"/>
          <a:stretch/>
        </p:blipFill>
        <p:spPr>
          <a:xfrm>
            <a:off x="1384200" y="1155600"/>
            <a:ext cx="6908760" cy="6350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>
            <a:lum bright="24000"/>
          </a:blip>
          <a:srcRect l="19011" t="43552" r="21223" b="15771"/>
          <a:stretch/>
        </p:blipFill>
        <p:spPr>
          <a:xfrm>
            <a:off x="406440" y="1981080"/>
            <a:ext cx="8953560" cy="442764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rcRect l="73181" t="10751" r="10809" b="82263"/>
          <a:stretch/>
        </p:blipFill>
        <p:spPr>
          <a:xfrm>
            <a:off x="8880480" y="6269040"/>
            <a:ext cx="93672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459600" y="237960"/>
            <a:ext cx="57315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900" spc="-1" strike="noStrike">
                <a:solidFill>
                  <a:srgbClr val="000000"/>
                </a:solidFill>
                <a:latin typeface="Arial"/>
              </a:rPr>
              <a:t>Indicadores de PMO´s no Brasi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rcRect l="14065" t="21146" r="14973" b="69719"/>
          <a:stretch/>
        </p:blipFill>
        <p:spPr>
          <a:xfrm>
            <a:off x="1447920" y="1130400"/>
            <a:ext cx="6921360" cy="64764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rcRect l="73181" t="10751" r="10809" b="82263"/>
          <a:stretch/>
        </p:blipFill>
        <p:spPr>
          <a:xfrm>
            <a:off x="8880480" y="6269040"/>
            <a:ext cx="936720" cy="2970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3"/>
          <a:srcRect l="16405" t="20074" r="15497" b="26705"/>
          <a:stretch/>
        </p:blipFill>
        <p:spPr>
          <a:xfrm>
            <a:off x="307800" y="1676520"/>
            <a:ext cx="8633160" cy="49021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4"/>
          <a:srcRect l="16538" t="63459" r="44520" b="7875"/>
          <a:stretch/>
        </p:blipFill>
        <p:spPr>
          <a:xfrm>
            <a:off x="6145200" y="4235400"/>
            <a:ext cx="3457440" cy="1847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rcRect l="14452" t="19896" r="14582" b="70613"/>
          <a:stretch/>
        </p:blipFill>
        <p:spPr>
          <a:xfrm>
            <a:off x="1574640" y="1130400"/>
            <a:ext cx="6921720" cy="67284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2"/>
          <a:srcRect l="73181" t="10751" r="10809" b="82263"/>
          <a:stretch/>
        </p:blipFill>
        <p:spPr>
          <a:xfrm>
            <a:off x="8880480" y="6269040"/>
            <a:ext cx="936720" cy="2970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3"/>
          <a:srcRect l="14065" t="50005" r="13153" b="14877"/>
          <a:stretch/>
        </p:blipFill>
        <p:spPr>
          <a:xfrm>
            <a:off x="208080" y="2286000"/>
            <a:ext cx="9431280" cy="33066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3459600" y="237960"/>
            <a:ext cx="57315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900" spc="-1" strike="noStrike">
                <a:solidFill>
                  <a:srgbClr val="000000"/>
                </a:solidFill>
                <a:latin typeface="Arial"/>
              </a:rPr>
              <a:t>Indicadores de PMO´s no Brasi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459600" y="237960"/>
            <a:ext cx="57315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900" spc="-1" strike="noStrike">
                <a:solidFill>
                  <a:srgbClr val="000000"/>
                </a:solidFill>
                <a:latin typeface="Arial"/>
              </a:rPr>
              <a:t>Indicadores de PMO´s no Brasi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rcRect l="73181" t="10751" r="10809" b="82263"/>
          <a:stretch/>
        </p:blipFill>
        <p:spPr>
          <a:xfrm>
            <a:off x="8880480" y="6269040"/>
            <a:ext cx="936720" cy="2970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rcRect l="14452" t="19896" r="14582" b="70613"/>
          <a:stretch/>
        </p:blipFill>
        <p:spPr>
          <a:xfrm>
            <a:off x="1600200" y="1130400"/>
            <a:ext cx="6921360" cy="67284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rcRect l="21876" t="37816" r="30990" b="28676"/>
          <a:stretch/>
        </p:blipFill>
        <p:spPr>
          <a:xfrm>
            <a:off x="609480" y="1968480"/>
            <a:ext cx="832176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3459600" y="237960"/>
            <a:ext cx="57315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900" spc="-1" strike="noStrike">
                <a:solidFill>
                  <a:srgbClr val="000000"/>
                </a:solidFill>
                <a:latin typeface="Arial"/>
              </a:rPr>
              <a:t>Indicadores de PMO´s no Brasi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rcRect l="73181" t="10751" r="10809" b="82263"/>
          <a:stretch/>
        </p:blipFill>
        <p:spPr>
          <a:xfrm>
            <a:off x="8880480" y="6269040"/>
            <a:ext cx="936720" cy="2970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>
            <a:lum bright="18000"/>
          </a:blip>
          <a:srcRect l="18100" t="29340" r="26173" b="32293"/>
          <a:stretch/>
        </p:blipFill>
        <p:spPr>
          <a:xfrm>
            <a:off x="398520" y="2095560"/>
            <a:ext cx="8415360" cy="434484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rcRect l="14452" t="19896" r="14582" b="70613"/>
          <a:stretch/>
        </p:blipFill>
        <p:spPr>
          <a:xfrm>
            <a:off x="1600200" y="1130400"/>
            <a:ext cx="692136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459600" y="237960"/>
            <a:ext cx="57315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r"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900" spc="-1" strike="noStrike">
                <a:solidFill>
                  <a:srgbClr val="000000"/>
                </a:solidFill>
                <a:latin typeface="Arial"/>
              </a:rPr>
              <a:t>Indicadores de PMO´s no Brasi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rcRect l="73181" t="10751" r="10809" b="82263"/>
          <a:stretch/>
        </p:blipFill>
        <p:spPr>
          <a:xfrm>
            <a:off x="8880480" y="6269040"/>
            <a:ext cx="936720" cy="29700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1384200" y="1523880"/>
            <a:ext cx="671832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Verdana"/>
                <a:ea typeface="Times New Roman"/>
              </a:rPr>
              <a:t>Obrigado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Verdana"/>
                <a:ea typeface="Times New Roman"/>
              </a:rPr>
              <a:t>Marcantonio Fabra, P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marcantonio.fabra@vivo.com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3306600" y="4280040"/>
            <a:ext cx="3360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98760" y="342720"/>
            <a:ext cx="4794120" cy="507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Surgimento do PMO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5680" y="1335240"/>
            <a:ext cx="902952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mandas crescentes dos stakeholders por informaçõe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istentes e organizadas para tomadas de dec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6440" y="2387520"/>
            <a:ext cx="8839080" cy="38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ssão por menores pra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ssão por menores cu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assez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ssão por planejamento adequ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os com altos invest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0" r="0" b="10617"/>
          <a:stretch/>
        </p:blipFill>
        <p:spPr>
          <a:xfrm>
            <a:off x="6134040" y="3179880"/>
            <a:ext cx="32162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89080" y="228600"/>
            <a:ext cx="720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Objetivo Básico de um P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60840" y="1940040"/>
            <a:ext cx="5873760" cy="34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entar  e  dar   suporte  que  permita  à organização desenvolver     seus projetos  da  forma mais eficiente e eficaz possí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 local central para conduzir, planejar, organizar, controlar e finalizar as atividades do proj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13253" t="13637" r="9244" b="16462"/>
          <a:stretch/>
        </p:blipFill>
        <p:spPr>
          <a:xfrm>
            <a:off x="361800" y="2230560"/>
            <a:ext cx="307044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8T13:41:26Z</dcterms:created>
  <dc:creator>Jose Roberto Blaschek</dc:creator>
  <dc:description/>
  <dc:language>en-US</dc:language>
  <cp:lastModifiedBy> Coordenação</cp:lastModifiedBy>
  <dcterms:modified xsi:type="dcterms:W3CDTF">2005-06-04T23:33:05Z</dcterms:modified>
  <cp:revision>441</cp:revision>
  <dc:subject/>
  <dc:title>Gerência de Custo</dc:title>
</cp:coreProperties>
</file>